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1417-6714-44CC-BA64-6318DF849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6040" y="423648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6DC1-A605-4FD4-B7CF-1EE191BFC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8720" y="21272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16040" y="423648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8720" y="423648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621E-0E67-4D01-A9AB-158D5B18B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4040" y="21272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1680" y="21272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16040" y="423648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4040" y="423648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1680" y="423648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A343-2637-43C5-B8E6-4B023BDE40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C82E-09B9-48A0-8E3C-581633E008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74AF-DC15-4D0D-9A07-720891303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8720" y="212724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3DB4-66CD-4488-B1A4-CB144F166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74DC-81B9-4317-B03B-C53FF5AF0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341360"/>
            <a:ext cx="77724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F56A-677C-44CD-AD17-9560D86A5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8720" y="212724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16040" y="423648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E937-7394-4140-91FC-07E921B93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8720" y="21272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8720" y="423648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85E2-EBAD-435A-AEF6-C1C2E7F39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8720" y="21272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6040" y="423648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15DA-3E0A-42A9-AFB2-CCBB4E11C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95F8-6A51-4960-940D-84C68722E2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ndhaving onder de vierde tranche Aw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58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x Mich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niversiteit van Til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u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t. 5.4.1.2 (verwijtbaarheidsvereis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derschap voldoende voor schuld, mits de mogelijkheid wordt geboden tegenbewijs te leveren; bewijslast dan bij overtr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B: tenzij de ‘delictsomschrijving’ opzet of schuld als bestanddeel k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BRvS 26 april 2006, AB 2006, 386: schuld werk-gever bij arbeidsongeval i.v.m. afwezigheid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ijgrecht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. 5.0.11: zwijgrecht en cautie bij begin ‘verhoo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HRM 17 december 1996, NJ 1997, 699 (Saunder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) zwijgrecht niet van toepassing op materiaal dat bestaat onafhankelijk van de wil van de ‘charged perso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) reflexwerking van zwijgrecht: bewijsmateriaal dat bij toezicht is verkregen, kán ontoelaatbaar zijn bij criminal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ijgrecht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HRM 3 mei 2001, AB 2002, 343 (JB-Zwitserlan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wijgrecht bestaat wel t.a.v. materiaal waarvan bestaan onzeker is (verbod ‘fishing expeditions’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HRM 29 juni 2007, NJ 2008, 25 (O’Halloran &amp; Franci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wang wel toegestaan bij verplichting naam te noemen bij verkeersovertreding, terwijl hoogte boete beperkt 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ijgrecht (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t in beginsel ook voor schriftelijke verkl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wijgrecht geldt zodra er sprake is van een criminal charge: zie art. 5.0.11; dan cautie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 schending zwijgrecht soms bepe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wijgrecht en spreekplicht (5:20 Aw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ere waarbor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aling en tolk (5.4.2.2 en 5.4.2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cumulatiereg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5.4.1.4 (boete-boe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5.4.1.5 (relatie boete tot strafre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B: geen regeling boete vs. andere bestraffende bestuurlijke sancti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te en zware procedure (afdeling 5.4.2); grens bij 340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menten in lichte en zware procedure </a:t>
            </a:r>
            <a:r>
              <a:rPr b="0" i="1" lang="nl-NL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p</a:t>
            </a:r>
            <a:r>
              <a:rPr b="0" i="1" lang="nl-NL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5680" y="2126880"/>
            <a:ext cx="781668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apport opmaken (5.4.2.1);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ij zp verplicht (5.4.2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apport toezenden (5.4.2.1 lid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 functiescheiding: oplegging in mandaat niet door opsteller rapport (10:3 lid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- horen (5.4.2.6 lid 3) bij zp verp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zage in stukken geven (5.4.2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autie geven (5.0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eslissing binnen 13 weken (5.4.2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pleggingsbevoegdheid vervalt na 2 jaar (5.4.1.6 lid 2);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ij zp na 5 jaar (lid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etehoogte (wetgever + bestuu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 bepaalt altijd een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steem met gefixeerde bedragen (o.a. Tabakswet, Warenwet, WAH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steem met alleen maxima (o.a. Mededingingswet, W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igingsbevoegdheid bestuursorgaan (5.4.1.7 lid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etehoogte (recht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le toetsing’ van boetehoogte; maar terughou-dende toetsing van beslissing om boete op te leg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volle toetsing bij vaste bedragen in beleidsreg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volle toetsing bij wettelijk gefixeerde bedragen? (Uitgangspunt: alleen toetsing in concreto, wanneer appellant erom vraagt, in uitzonderlijke gevall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x mitior (5.4.1.7 lid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ogere boete in beroep (8:69), tenzij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 voorzien bij vernietigen boetebeschikking (8:72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htsbescherming (overi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waar en beroep inzake boete hebben geen schorsende we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rden kunnen belang hebben bij boete-ople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temming door bestuursrechter met jurisprudentie van de strafrechter gew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nuitvoerlegging sanctiebeslui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wb-IV kent drie ‘effectueringsbeschikkingen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stenbeschikking bestuursdwang (altijd; 4.4.1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passingsbeschikking bestuursdwang (op verzoek benadeelde derde; 5:31a lid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orderingsbeschikking (op verzoek derde én - zonder verzoek - wanneer bestuur ‘dwangtraject’ wil kunnen volgen; 5: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regelt de Awb-IV over handhaving?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bepalingen inzake bestuurlijke sanc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jzigingen in bepalingen over herstelsanc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eteregeling (titel 5.4 en andere bepal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lingen in geldschuldenregeling van belang voor de handha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B: Wat de Awb-IV niet rege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trekking als sa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oekenning van boetebevoegd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tr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treding: gedraging (handelen of nalaten) i.s.m. wettelijk voorschrift (5.0.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l. art. 5.0.8: voor elke overtreding kan een sanctie worden opgelegd, ook als die overtredingen door één handeling worden gepleegd. Door één ‘gedraging’ dus meerdere overtredingen mogelij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tre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treder: pleger én medepleger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pleger (nieuw in bestuursrecht): bewuste samenwerking en gezamenlijke uitvo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eitelijke dader en functionele d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rechtspersonen (inclusief overhei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tuurlijke sanc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r een bestuursorgaan wegens een overtreding opgelegde verplichting of onthouden aanspraak (5.0.2 lid 1 sub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stelsancties (5.0.2 lid 1 sub b) en bestraffende sancties (5.0.2 lid 1 sub c); zelfstandige last (5.0.2 lid 2) is geen sancti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grondslag vereist (5.0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k partiële handhaving mogelijk (5.0.2 lid 1 sub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 onder bestuursdwa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htergrond: terminologische aanpassing; geen inhoudelijke wijziging beoogd (maar wel rare definitie: zie art. 5:21 Awb. Last = last + bevoegdheid…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eiste van het in zijn macht hebben: wel van belang bij dwangsom (last alleen aan overtreder!),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stuursdwang. Straks ook nog z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dan ook: kostenverhaal bestuursdwang alleen op overtreder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atie van sanc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od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amenlo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stuursdwang en dwangsom: nu 5:31 en 5:36 Awb, straks 5.0.6 Awb-IV (t.a.v. van herstelsanc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B: dit is geen cumulatieverb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cumulatieregels bij boete en andere straf (zie hierna slide 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bestuurlijke boete (algeme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tel 5.4 Awb-IV geeft regeling voor elders (in ongeveer 60 wetten) aan bestuursorganen toegekende boetebevoegd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uniformering; maar zie aanpassingswetg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wikkeling naar meer boetebevoegdheden onder druk door Wet OM-afdoening, i.h.b. bestuurlijke strafbeschik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grippen boete en beboetbare gedra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 in art. 5.4.1.1: bestraffende sanctie,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lijke verplichting tot betaling geldsom, gericht op overtr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iminal charge (art. 6 EV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meeste) kortingen en intrekkingen subsidies en uitkeringen (zie lid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boetbare gedraging (zie CRvB 16 mei 2001, AB 2003, 17 inzake vraag betreffende afzonderlijke overtreding of voortgezette hande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6:05:45Z</dcterms:created>
  <dc:creator>Lex</dc:creator>
  <dc:description/>
  <dc:language>en-US</dc:language>
  <cp:lastModifiedBy>UvT</cp:lastModifiedBy>
  <dcterms:modified xsi:type="dcterms:W3CDTF">2009-04-08T14:49:05Z</dcterms:modified>
  <cp:revision>8</cp:revision>
  <dc:subject/>
  <dc:title>Handhaving onder de vierde tranche Awb</dc:title>
</cp:coreProperties>
</file>