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D31-7EF0-4443-965D-A580F5EF2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6040" y="423648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0C4A-E58A-4E18-82B7-B08D7EF90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872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6234-78F3-4D27-ACAC-9C7CA82FC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404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1680" y="21272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1604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404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1680" y="423648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F059-D448-4CEC-BEBB-C2D04D49C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065A-2DD6-4535-873F-D2F465E8B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7F84-746C-4033-8BCE-B13D61956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355F-5ED2-4DF4-834A-00F763B86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1870-DB47-4ACB-8BB2-EC386E2E5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341360"/>
            <a:ext cx="7772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656F-C245-4C3E-BA7C-12854E8F5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7AA3-4173-4541-B659-76CB4F4D5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8720" y="423648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5267-3B65-4389-B9CB-833F60D70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720" y="21272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6040" y="423648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D899-989B-454F-80A1-7556FE76D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B08-F18A-4796-AE83-0DFE393D92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having onder de vierde tranche Aw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x Mich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niversiteit van Til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u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t. 5.4.1.2 (verwijtbaarheidsverei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derschap voldoende voor schuld, mits de mogelijkheid wordt geboden tegenbewijs te leveren; bewijslast dan bij overtr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tenzij de ‘delictsomschrijving’ opzet of schuld als bestanddeel 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BRvS 26 april 2006, AB 2006, 386: schuld werk-gever bij arbeidsongeval i.v.m. afwezigheid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. 5.0.11: zwijgrecht en cautie bij begin ‘verho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RM 17 december 1996, NJ 1997, 699 (Saunder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) zwijgrecht niet van toepassing op materiaal dat bestaat onafhankelijk van de wil van de ‘charged pers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) reflexwerking van zwijgrecht: bewijsmateriaal dat bij toezicht is verkregen, kán ontoelaatbaar zijn bij criminal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HRM 3 mei 2001, AB 2002, 343 (JB-Zwitserlan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bestaat wel t.a.v. materiaal waarvan bestaan onzeker is (verbod ‘fishing expeditions’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HRM 29 juni 2007, NJ 2008, 25 (O’Halloran &amp; Franci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wang wel toegestaan bij verplichting naam te noemen bij verkeersovertreding, terwijl hoogte boete beperkt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jgrecht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t in beginsel ook voor schriftelijke verkl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geldt zodra er sprake is van een criminal charge: zie art. 5.0.11; dan cauti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schending zwijgrecht soms bep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ijgrecht en spreekplicht (5:20 Aw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ere waarbor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aling en tolk (5.4.2.2 en 5.4.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cumulatiereg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.4.1.4 (boete-bo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.4.1.5 (relatie boete tot strafre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B: geen regeling boete vs. andere bestraffende bestuurlijke sanc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e en zware procedure (afdeling 5.4.2); grens bij 340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menten in lichte en zware procedure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5680" y="2126880"/>
            <a:ext cx="781668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apport opmaken (5.4.2.1);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 zp verplicht (5.4.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apport toezenden (5.4.2.1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 functiescheiding: oplegging in mandaat niet door opsteller rapport (10:3 lid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 horen (5.4.2.6 lid 3) bij zp verp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zage in stukken geven (5.4.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autie geven (5.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eslissing binnen 13 weken (5.4.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pleggingsbevoegdheid vervalt na 2 jaar (5.4.1.6 lid 2);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 zp na 5 jaar (lid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etehoogte (wetgever + best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 bepaalt altijd een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em met gefixeerde bedragen (o.a. Tabakswet, Warenwet, WAH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em met alleen maxima (o.a. Mededingingswet, W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igingsbevoegdheid bestuursorgaan (5.4.1.7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etehoogte (rech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le toetsing’ van boetehoogte; maar terughou-dende toetsing van beslissing om boete op te 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volle toetsing bij vaste bedragen in beleidsreg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volle toetsing bij wettelijk gefixeerde bedragen? (Uitgangspunt: alleen toetsing in concreto, wanneer appellant erom vraagt, in uitzonderlijke geval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x mitior (5.4.1.7 lid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ogere boete in beroep (8:69), tenzij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 voorzien bij vernietigen boetebeschikking (8:7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sbescherming (overi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 en beroep inzake boete hebben geen schorsende we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rden kunnen belang hebben bij boete-ople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temming door bestuursrechter met jurisprudentie van de strafrechter gew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uitvoerlegging sanctiebesl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wb-IV kent drie ‘effectueringsbeschikkingen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stenbeschikking bestuursdwang (altijd; 4.4.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passingsbeschikking bestuursdwang (op verzoek benadeelde derde; 5:31a li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orderingsbeschikking (op verzoek derde én - zonder verzoek - wanneer bestuur ‘dwangtraject’ wil kunnen volgen; 5: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regelt de Awb-IV over handhaving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bepalingen inzake bestuurlijke sanc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jzigingen in bepalingen over herstelsanc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eteregeling (titel 5.4 en andere bepa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lingen in geldschuldenregeling van belang voor de hand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Wat de Awb-IV niet rege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trekking als sa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oekenning van boete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tr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reding: gedraging (handelen of nalaten) i.s.m. wettelijk voorschrift (5.0.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l. art. 5.0.8: voor elke overtreding kan een sanctie worden opgelegd, ook als die overtredingen door één handeling worden gepleegd. Door één ‘gedraging’ dus meerdere overtredingen mogelij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tr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reder: pleger én medepleg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pleger (nieuw in bestuursrecht): bewuste samenwerking en gezamenlijke uitvo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eitelijke dader en functionele d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rechtspersonen (inclusief overhei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uurlijke sanc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een bestuursorgaan wegens een overtreding opgelegde verplichting of onthouden aanspraak (5.0.2 lid 1 sub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stelsancties (5.0.2 lid 1 sub b) en bestraffende sancties (5.0.2 lid 1 sub c); zelfstandige last (5.0.2 lid 2) is geen sanct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grondslag vereist (5.0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 partiële handhaving mogelijk (5.0.2 lid 1 sub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 onder bestuursdwa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htergrond: terminologische aanpassing; geen inhoudelijke wijziging beoogd (maar wel rare definitie: zie art. 5:21 Awb. Last = last + bevoegdheid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iste van het in zijn macht hebben: wel van belang bij dwangsom (last alleen aan overtreder!)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stuursdwang. Straks ook nog z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dan ook: kostenverhaal bestuursdwang alleen op overtred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atie van sanc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amen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stuursdwang en dwangsom: nu 5:31 en 5:36 Awb, straks 5.0.6 Awb-IV (t.a.v. van herstelsanc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dit is geen cumulatieverb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cumulatieregels bij boete en andere straf (zie hierna slide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stuurlijke boete (algeme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tel 5.4 Awb-IV geeft regeling voor elders (in ongeveer 60 wetten) aan bestuursorganen toegekende boete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uniformering; maar zie aanpassings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wikkeling naar meer boetebevoegdheden onder druk door Wet OM-afdoening, i.h.b. bestuurlijke strafbeschi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rippen boete en beboetbare gedr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6040" y="21272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 in art. 5.4.1.1: bestraffende sanctie,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lijke verplichting tot betaling geldsom, gericht op overtr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minal charge (art. 6 EV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meeste) kortingen en intrekkingen subsidies en uitkeringen (zie li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boetbare gedraging (zie CRvB 16 mei 2001, AB 2003, 17 inzake vraag betreffende afzonderlijke overtreding of voortgezette hand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05:45Z</dcterms:created>
  <dc:creator>Lex</dc:creator>
  <dc:description/>
  <dc:language>en-US</dc:language>
  <cp:lastModifiedBy>UvT</cp:lastModifiedBy>
  <dcterms:modified xsi:type="dcterms:W3CDTF">2009-04-08T14:49:05Z</dcterms:modified>
  <cp:revision>8</cp:revision>
  <dc:subject/>
  <dc:title>Handhaving onder de vierde tranche Awb</dc:title>
</cp:coreProperties>
</file>