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E6D6E-7DAC-4A9A-A647-6F7F5488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B5E2-184C-4E00-8F0F-8EF4BCB2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8BFD-CE80-4FB3-BBBF-6B5E80B9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D99A1-2087-46C7-A48E-93C64872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3794-13B4-4F9C-9B88-B0350986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7321C-A552-400B-A416-066457C1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955EE-EB3F-4BC1-9844-CCEE79ED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5FA7B-B0DF-4E15-B04C-A9ED30C4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AA06-A942-47DA-A343-90D6C406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8D398-5B3D-40E7-82A7-BF439E7D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8E2C-8A80-40FE-B69E-90587026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3C72-4A1E-4110-B7D6-7C1912FA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b8b0aa"/>
          </a:solidFill>
          <a:ln w="9360">
            <a:solidFill>
              <a:srgbClr val="b8b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1" marL="900000" indent="-363600">
              <a:spcBef>
                <a:spcPts val="601"/>
              </a:spcBef>
              <a:buClr>
                <a:srgbClr val="344d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2" marL="1523880" indent="-357120">
              <a:spcBef>
                <a:spcPts val="601"/>
              </a:spcBef>
              <a:buClr>
                <a:srgbClr val="344d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3" marL="2060640" indent="-357120">
              <a:spcBef>
                <a:spcPts val="601"/>
              </a:spcBef>
              <a:buClr>
                <a:srgbClr val="344d8c"/>
              </a:buClr>
              <a:buFont typeface="Wingdings 3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4" marL="2598840" indent="-358920">
              <a:spcBef>
                <a:spcPts val="601"/>
              </a:spcBef>
              <a:buClr>
                <a:srgbClr val="344d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5" marL="2598840" indent="-3589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6" marL="2598840" indent="-3589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6440" y="6357960"/>
            <a:ext cx="201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344d8c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44d8c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625840" y="6365880"/>
            <a:ext cx="107928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44d8c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44d8c"/>
                </a:solidFill>
                <a:latin typeface="Arial"/>
                <a:ea typeface="Arial"/>
              </a:rPr>
              <a:t>Slide </a:t>
            </a:r>
            <a:fld id="{853BC65B-C41D-4FE8-BB72-6D6BB8643CD7}" type="slidenum">
              <a:rPr b="0" lang="en-GB" sz="1000" spc="-1" strike="noStrike">
                <a:solidFill>
                  <a:srgbClr val="344d8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067280" y="6367320"/>
            <a:ext cx="461952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44d8c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4d8c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32360" y="115920"/>
            <a:ext cx="405144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52640"/>
            <a:ext cx="9144000" cy="4032360"/>
          </a:xfrm>
          <a:prstGeom prst="rect">
            <a:avLst/>
          </a:prstGeom>
          <a:solidFill>
            <a:srgbClr val="b8b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91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5414040" y="3118320"/>
            <a:ext cx="6885000" cy="647640"/>
          </a:xfrm>
          <a:prstGeom prst="rtTriangle">
            <a:avLst/>
          </a:prstGeom>
          <a:solidFill>
            <a:srgbClr val="344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-1513080" y="1449360"/>
            <a:ext cx="3600360" cy="647640"/>
          </a:xfrm>
          <a:prstGeom prst="rtTriangle">
            <a:avLst/>
          </a:prstGeom>
          <a:solidFill>
            <a:srgbClr val="344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56080" y="1268280"/>
            <a:ext cx="434016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uurt.wildeboer@cms-dsb.com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922400"/>
            <a:ext cx="731520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twikkelingen Awb en attribu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uurt Wildeb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Luurt.wildeboer@cms-dsb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5 april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ATTRIBUTIE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d8c"/>
                </a:solidFill>
                <a:latin typeface="Arial"/>
              </a:rPr>
              <a:t>Bestuursorgaa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neemt besluiten (indien bestuursbevoegdheid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bevoegd beleidsregels vast te stell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procespartij in bezwaar en beroep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politieke verantwoord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klachtrech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OVERIG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d8c"/>
                </a:solidFill>
                <a:latin typeface="Arial"/>
              </a:rPr>
              <a:t>Schakelbepal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bij toedeling andere bevoegdheden dan het nemen van besluit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bepaling inzake attributie van toepass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d8c"/>
                </a:solidFill>
                <a:latin typeface="Arial"/>
              </a:rPr>
              <a:t>Mandaa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mandaat bij opleggen boete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niet aan degene die van overtreding proces-verbaal heeft opgemaak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ALGEMENE WET BESTUURSRECHT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Awb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Aanbouwwet – invoering in tranches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Codificatie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Voorontwerp 4e Tranche Awb (1999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lvl="1" marL="900000" indent="-363600">
              <a:lnSpc>
                <a:spcPct val="90000"/>
              </a:lnSpc>
              <a:spcBef>
                <a:spcPts val="499"/>
              </a:spcBef>
              <a:buClr>
                <a:srgbClr val="344d8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Openbaarheid van bestuur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Stand van zaken wetsvoorstellen Awb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Wet samenhangende besluiten (1-7-2008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Wet elektronische bekendmaking (1-4-2009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Wet dwangsom en beroep bij niet tijdig beslissen (inwerkingtred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Wijziging Awb ivm Wet dwangsom (uiterlijk 1-1-2010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Wet bestuurlijke lus (door TK aangenomen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ALGEMENE WET BESTUURSRECHT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Wet dwangsom en beroep bij niet tijdig beslissen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verbeuren dwangsom overheid bij overschrijding beslistermij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na ingebrekestell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financiële sanctie voor bespoedigen besluitvorming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(€ 20,- tot € 40,- per dag; max. 42 dagen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inwerkingtreding: na aanpassing beslistermijnen in Awb en Wob; uiterlijk 1-1-2010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aanpassingswe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ALGEMENE WET BESTUURSRECHT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Wet bestuurlijke lus Awb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herstel gebreken in besluit na tussenuitspraak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in elke fase van beroepsprocedure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bevorderen finale geschilbeslecht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inwerkingtreding: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lvl="1" marL="900000" indent="-363600">
              <a:spcBef>
                <a:spcPts val="499"/>
              </a:spcBef>
              <a:buClr>
                <a:srgbClr val="344d8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lvl="1" marL="900000" indent="-363600">
              <a:spcBef>
                <a:spcPts val="499"/>
              </a:spcBef>
              <a:buClr>
                <a:srgbClr val="344d8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Wetsvoorstel 11 maart 2009 door TK aangenom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4e TRANCHE ALGEMENE WET BESTUURSRECHT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4e Tranche Awb (29 702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44d8c"/>
                </a:solidFill>
                <a:latin typeface="Arial"/>
              </a:rPr>
              <a:t>- Bestuursrechtelijke geldschulden (titel 4.4 Awb)</a:t>
            </a: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44d8c"/>
                </a:solidFill>
                <a:latin typeface="Arial"/>
              </a:rPr>
              <a:t>- Bestuursrechtelijke handhaving (in het bijzonder bestuurlijke</a:t>
            </a: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44d8c"/>
                </a:solidFill>
                <a:latin typeface="Arial"/>
              </a:rPr>
              <a:t>  </a:t>
            </a:r>
            <a:r>
              <a:rPr b="0" lang="nl-NL" sz="2200" spc="-1" strike="noStrike">
                <a:solidFill>
                  <a:srgbClr val="344d8c"/>
                </a:solidFill>
                <a:latin typeface="Arial"/>
              </a:rPr>
              <a:t>boete) (titels 5.1 en 5.4 Awb)</a:t>
            </a: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44d8c"/>
                </a:solidFill>
                <a:latin typeface="Arial"/>
              </a:rPr>
              <a:t>- Attributie bestuursbevoegdheden aan ambtenaren (afdeling</a:t>
            </a: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44d8c"/>
                </a:solidFill>
                <a:latin typeface="Arial"/>
              </a:rPr>
              <a:t>  </a:t>
            </a:r>
            <a:r>
              <a:rPr b="0" lang="nl-NL" sz="2200" spc="-1" strike="noStrike">
                <a:solidFill>
                  <a:srgbClr val="344d8c"/>
                </a:solidFill>
                <a:latin typeface="Arial"/>
              </a:rPr>
              <a:t>10.1.3 Awb)</a:t>
            </a: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344d8c"/>
                </a:solidFill>
                <a:latin typeface="Arial"/>
              </a:rPr>
              <a:t>Aanpassingswet 4e Tranche Awb (31 124)</a:t>
            </a: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344d8c"/>
                </a:solidFill>
                <a:latin typeface="Arial"/>
              </a:rPr>
              <a:t>Inwerkingtreding:</a:t>
            </a:r>
            <a:r>
              <a:rPr b="0" lang="nl-NL" sz="2200" spc="-1" strike="noStrike">
                <a:solidFill>
                  <a:srgbClr val="344d8c"/>
                </a:solidFill>
                <a:latin typeface="Arial"/>
              </a:rPr>
              <a:t> 1 juli 2009</a:t>
            </a: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ATTRIBUTIE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Huidige situatie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Geen regeling attributie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Regeling in Awb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Geen volledige regel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Alleen attributie aan ondergeschikt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Geen regeling grondslag en toedeling bevoegdhed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Doel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Buiten twijfel stellen grondslag voor attributie aan ondergeschikt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ATTRIBUTIE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d8c"/>
                </a:solidFill>
                <a:latin typeface="Arial"/>
              </a:rPr>
              <a:t>Aanleid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Op verzoek van TK i.h.k.v. behandeling Derde Tranche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Verbod delegatie aan ondergeschikt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d8c"/>
                </a:solidFill>
                <a:latin typeface="Arial"/>
              </a:rPr>
              <a:t>Betekenis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Het bij wettelijk voorschrift in het leven roepen en toedelen van publiekrechtelijke bevoegdhed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d8c"/>
                </a:solidFill>
                <a:latin typeface="Arial"/>
              </a:rPr>
              <a:t>Knelpun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attributie aan ondergeschikt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hiërarchische verhoud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ATTRIBUTIE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d8c"/>
                </a:solidFill>
                <a:latin typeface="Arial"/>
              </a:rPr>
              <a:t>Onderscheid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delegatie: 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bestaande bevoegdheid overgedrag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mandaat: 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bevoegdheid wordt uitgeoefend in naam van 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bestuursorgaan dat bevoegdheid bezi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ATTRIBUTIE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Hiërarchische verhoud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ondergeschiktheidsrelatie blijft bestaa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(hiërarchische) instructiebevoegdheid blijft bestaa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algemene instructies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instructies in individueel geval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inlichtingenplich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6:32:14Z</dcterms:created>
  <dc:creator> </dc:creator>
  <dc:description> </dc:description>
  <dc:language>en-US</dc:language>
  <cp:lastModifiedBy/>
  <dcterms:modified xsi:type="dcterms:W3CDTF">2009-04-14T06:32:14Z</dcterms:modified>
  <cp:revision>1</cp:revision>
  <dc:subject> </dc:subject>
  <dc:title> </dc:title>
</cp:coreProperties>
</file>