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BF73-48E6-42FF-9813-43CFFA1A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9D29-8E82-43CE-862F-EFAB05B8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D60F-59AC-4E6F-9659-EE2F7DC7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4F7F-9630-4229-8716-B44F18A9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3833-4FEC-48C3-AC84-4FAE0CA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2234-C577-401D-AFE0-22F8CC4D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A3A2-9B57-4D50-A163-3276D7C0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E20D-03A9-4188-B273-773CE8C3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B470-B825-42F0-ADF0-A95B9EB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7EBF-6CF2-4885-BFDE-E18D458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1398-D2F2-4ED9-8125-52D5257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5D83-DDC9-4393-BEB7-E281DB6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b8b0aa"/>
          </a:solidFill>
          <a:ln w="9360">
            <a:solidFill>
              <a:srgbClr val="b8b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601"/>
              </a:spcBef>
              <a:buClr>
                <a:srgbClr val="344d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2" marL="1523880" indent="-357120">
              <a:spcBef>
                <a:spcPts val="601"/>
              </a:spcBef>
              <a:buClr>
                <a:srgbClr val="344d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3" marL="2060640" indent="-357120">
              <a:spcBef>
                <a:spcPts val="601"/>
              </a:spcBef>
              <a:buClr>
                <a:srgbClr val="344d8c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4" marL="2598840" indent="-358920">
              <a:spcBef>
                <a:spcPts val="601"/>
              </a:spcBef>
              <a:buClr>
                <a:srgbClr val="344d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5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  <a:p>
            <a:pPr lvl="6" marL="259884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6440" y="6357960"/>
            <a:ext cx="20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44d8c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625840" y="6365880"/>
            <a:ext cx="107928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Slide </a:t>
            </a:r>
            <a:fld id="{5DC19816-6A12-4B42-863C-C42BAEE024D9}" type="slidenum">
              <a:rPr b="0" lang="en-GB" sz="1000" spc="-1" strike="noStrike">
                <a:solidFill>
                  <a:srgbClr val="344d8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067280" y="6367320"/>
            <a:ext cx="46195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4d8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4d8c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32360" y="115920"/>
            <a:ext cx="405144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9144000" cy="4032360"/>
          </a:xfrm>
          <a:prstGeom prst="rect">
            <a:avLst/>
          </a:prstGeom>
          <a:solidFill>
            <a:srgbClr val="b8b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91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4d8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5414040" y="3118320"/>
            <a:ext cx="688500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-1513080" y="1449360"/>
            <a:ext cx="3600360" cy="647640"/>
          </a:xfrm>
          <a:prstGeom prst="rtTriangle">
            <a:avLst/>
          </a:prstGeom>
          <a:solidFill>
            <a:srgbClr val="344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56080" y="1268280"/>
            <a:ext cx="434016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urt.wildeboer@cms-dsb.com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22400"/>
            <a:ext cx="73152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wikkelingen Awb en attribu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uurt Wildeb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Luurt.wildeboer@cms-dsb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5 april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Bestuursorg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neemt besluiten (indien bestuursbevoegdheid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voegd beleidsregels vast te stell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procespartij in bezwaar en beroep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politieke verantwoor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klachtrech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OVERIG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Schakelbepa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ij toedeling andere bevoegdheden dan het nemen van beslui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paling inzake attributie van toepass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Mandaa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mandaat bij opleggen boet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niet aan degene die van overtreding proces-verbaal heeft opgemaak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Awb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Aanbouwwet – invoering in tranche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Codificati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Voorontwerp 4e Tranche Awb (1999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lnSpc>
                <a:spcPct val="90000"/>
              </a:lnSpc>
              <a:spcBef>
                <a:spcPts val="499"/>
              </a:spcBef>
              <a:buClr>
                <a:srgbClr val="344d8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Openbaarheid van bestuur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Stand van zaken wetsvoorstellen Awb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samenhangende besluiten (1-7-2008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elektronische bekendmaking (1-4-2009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dwangsom en beroep bij niet tijdig beslissen (inwerkingtre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ijziging Awb ivm Wet dwangsom (uiterlijk 1-1-2010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Wet bestuurlijke lus (door TK aangenomen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Wet dwangsom en beroep bij niet tijdig beslissen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verbeuren dwangsom overheid bij overschrijding beslistermij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na ingebrekestel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financiële sanctie voor bespoedigen besluitvorming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(€ 20,- tot € 40,- per dag; max. 42 dagen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inwerkingtreding: na aanpassing beslistermijnen in Awb en Wob; uiterlijk 1-1-2010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aanpassingswe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Wet bestuurlijke lus Awb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herstel gebreken in besluit na tussenuitspraak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in elke fase van beroepsprocedur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bevorderen finale geschilbeslecht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 inwerkingtreding: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499"/>
              </a:spcBef>
              <a:buClr>
                <a:srgbClr val="344d8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lvl="1" marL="900000" indent="-363600">
              <a:spcBef>
                <a:spcPts val="499"/>
              </a:spcBef>
              <a:buClr>
                <a:srgbClr val="344d8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Wetsvoorstel 11 maart 2009 door TK aangenom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4e TRANCHE ALGEMENE WET BESTUURSRECHT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4e Tranche Awb (29 702)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- Bestuursrechtelijke geldschulden (titel 4.4 Awb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- Bestuursrechtelijke handhaving (in het bijzonder bestuurlijke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boete) (titels 5.1 en 5.4 Awb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- Attributie bestuursbevoegdheden aan ambtenaren (afdeling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10.1.3 Awb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344d8c"/>
                </a:solidFill>
                <a:latin typeface="Arial"/>
              </a:rPr>
              <a:t>Aanpassingswet 4e Tranche Awb (31 124)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344d8c"/>
                </a:solidFill>
                <a:latin typeface="Arial"/>
              </a:rPr>
              <a:t>Inwerkingtreding:</a:t>
            </a:r>
            <a:r>
              <a:rPr b="0" lang="nl-NL" sz="2200" spc="-1" strike="noStrike">
                <a:solidFill>
                  <a:srgbClr val="344d8c"/>
                </a:solidFill>
                <a:latin typeface="Arial"/>
              </a:rPr>
              <a:t> 1 juli 2009</a:t>
            </a:r>
            <a:endParaRPr b="0" lang="en-US" sz="22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uidige situati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en regeling attributie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Regeling in Awb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en volledige regel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Alleen attribu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Geen regeling grondslag en toedeling bevoegdhed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Doe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Buiten twijfel stellen grondslag voor attribu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Aanlei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Op verzoek van TK i.h.k.v. behandeling Derde Tranche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Verbod delega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Betekenis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Het bij wettelijk voorschrift in het leven roepen en toedelen van publiekrechtelijke bevoegdhed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Knelpun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attributie aan ondergeschikt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hiërarchische verhou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d8c"/>
                </a:solidFill>
                <a:latin typeface="Arial"/>
              </a:rPr>
              <a:t>Onderscheid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delegatie: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staande bevoegdheid overgedrage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mandaat: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voegdheid wordt uitgeoefend in naam van 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44d8c"/>
                </a:solidFill>
                <a:latin typeface="Arial"/>
              </a:rPr>
              <a:t>bestuursorgaan dat bevoegdheid bezi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4d8c"/>
                </a:solidFill>
                <a:latin typeface="Arial"/>
              </a:rPr>
              <a:t>ATTRIBUTIE</a:t>
            </a:r>
            <a:endParaRPr b="0" lang="en-US" sz="2600" spc="-1" strike="noStrike">
              <a:solidFill>
                <a:srgbClr val="344d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44d8c"/>
                </a:solidFill>
                <a:latin typeface="Arial"/>
              </a:rPr>
              <a:t>Hiërarchische verhouding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ondergeschiktheidsrelatie blijft best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(hiërarchische) instructiebevoegdheid blijft bestaan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algemene instructies 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instructies in individueel geval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-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344d8c"/>
                </a:solidFill>
                <a:latin typeface="Arial"/>
              </a:rPr>
              <a:t>inlichtingenplicht</a:t>
            </a: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44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6:32:14Z</dcterms:created>
  <dc:creator> </dc:creator>
  <dc:description> </dc:description>
  <dc:language>en-US</dc:language>
  <cp:lastModifiedBy/>
  <dcterms:modified xsi:type="dcterms:W3CDTF">2009-04-14T06:32:14Z</dcterms:modified>
  <cp:revision>1</cp:revision>
  <dc:subject> </dc:subject>
  <dc:title> </dc:title>
</cp:coreProperties>
</file>