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5EE-6BF9-4C2E-A8F7-516A8A09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1105344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4880" y="5877000"/>
            <a:ext cx="1105344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EB0-A959-4CA5-8CC6-DB3A801A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4880" y="587700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8760" y="587700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CD2-9C1A-49DE-830A-B7FDBB91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2040" y="281952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49560" y="281952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4880" y="587700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12040" y="587700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49560" y="5877000"/>
            <a:ext cx="355896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1A8-CFA6-483B-9D4F-8CF33E38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4880" y="2819520"/>
            <a:ext cx="1105344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EDA6-90CA-4656-81A7-1F979A47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1105344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A00-C447-4E11-A732-B69CEF59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61B-0067-4901-8691-E4FE0EBA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4D5-4A21-487E-AE28-0F6485C9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4880" y="866880"/>
            <a:ext cx="1105344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D62-B0A6-412D-9067-BC192015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4880" y="587700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EBF-2F6C-422F-BF43-0D26EC7F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8760" y="587700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9F2-02A4-48D0-BBBB-518A48E8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488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8760" y="2819520"/>
            <a:ext cx="539388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4880" y="5877000"/>
            <a:ext cx="11053440" cy="279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462-0C7A-43C5-ADC1-526D9F1C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4880" y="866880"/>
            <a:ext cx="11053440" cy="162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4880" y="2819520"/>
            <a:ext cx="11053440" cy="5852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9000"/>
          </a:bodyPr>
          <a:p>
            <a:pPr marL="482400" indent="-482400">
              <a:spcBef>
                <a:spcPts val="1151"/>
              </a:spcBef>
              <a:buClr>
                <a:srgbClr val="000000"/>
              </a:buClr>
              <a:buFont typeface="Times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6520" indent="-402120">
              <a:spcBef>
                <a:spcPts val="1151"/>
              </a:spcBef>
              <a:buClr>
                <a:srgbClr val="000000"/>
              </a:buClr>
              <a:buFont typeface="Times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9200" indent="-321840">
              <a:spcBef>
                <a:spcPts val="1151"/>
              </a:spcBef>
              <a:buClr>
                <a:srgbClr val="000000"/>
              </a:buClr>
              <a:buFont typeface="Times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3" marL="2253600" indent="-321840">
              <a:spcBef>
                <a:spcPts val="1151"/>
              </a:spcBef>
              <a:buClr>
                <a:srgbClr val="000000"/>
              </a:buClr>
              <a:buFont typeface="Times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4" marL="2896200" indent="-321840">
              <a:spcBef>
                <a:spcPts val="1151"/>
              </a:spcBef>
              <a:buClr>
                <a:srgbClr val="000000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5" marL="2896200" indent="-321840">
              <a:spcBef>
                <a:spcPts val="1151"/>
              </a:spcBef>
              <a:buClr>
                <a:srgbClr val="000000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6" marL="2896200" indent="-321840">
              <a:spcBef>
                <a:spcPts val="1151"/>
              </a:spcBef>
              <a:buClr>
                <a:srgbClr val="000000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4520" y="8889840"/>
            <a:ext cx="270972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480" y="8889840"/>
            <a:ext cx="411624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8240" y="8889840"/>
            <a:ext cx="270972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 algn="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491C879E-9791-4C5C-BB1A-F8EA229E75C4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443480" y="8889840"/>
            <a:ext cx="411624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74520" y="8889840"/>
            <a:ext cx="270972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6880" y="90550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9064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4040" y="1063800"/>
            <a:ext cx="1189368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es </a:t>
            </a: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ABVAKABO </a:t>
            </a:r>
            <a:r>
              <a:rPr b="1" i="1" lang="nl-NL" sz="6000" spc="-1" strike="noStrike">
                <a:solidFill>
                  <a:srgbClr val="ffffff"/>
                </a:solidFill>
                <a:latin typeface="Times New Roman"/>
              </a:rPr>
              <a:t>FNV </a:t>
            </a: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NOVON 15 april 200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De Vierde Tranche Aw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111560"/>
            <a:ext cx="10287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r gelegenheid van 15 jaar Contactgroep Algemeen Bestuu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Dagvoorzitter: mr. P.L.J. Verhoe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06320" y="90676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Programma (1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0.00 uur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Opening, door mevrouw Edith Snoey,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voorzitter ABVAKABO F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0.10 uur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Presentatie BMC, door mevrouw drs. A.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van Gorsel, directeur Ruimte en Wonen B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0.30 uur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4</a:t>
            </a:r>
            <a:r>
              <a:rPr b="0" lang="nl-NL" sz="3200" spc="-1" strike="noStrike" baseline="30000">
                <a:solidFill>
                  <a:srgbClr val="352c59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tranche Awb Handhaving, door prof. mr. drs.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F.C.M.A. Michiels, hoogleraar Universiteit Tilbu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1.30 uur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Lunchpau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2.30 uur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4e tranche Awb Algemeen, door mr. ing. L.J.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Wildeboer, advocaat CMS Derks Star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Busmann Utre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66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90727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907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506320" y="90676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825640"/>
            <a:ext cx="118108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52c59"/>
                </a:solidFill>
                <a:latin typeface="Arial"/>
              </a:rPr>
              <a:t>Programma (2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3.30 uur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4</a:t>
            </a:r>
            <a:r>
              <a:rPr b="0" lang="nl-NL" sz="3200" spc="-1" strike="noStrike" baseline="30000">
                <a:solidFill>
                  <a:srgbClr val="352c59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tranche Awb bestuursrechtelijke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geldschulden, door mevrouw mr. M. Bekooy,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advocaat bij CMS Derks Star Busmann Arn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4.30 uur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Pau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5.00 uur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Implementatie bestuursrechtelijke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geldschulden, door mr. R. Oosterhof, B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5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15.45 uur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352c59"/>
                </a:solidFill>
                <a:latin typeface="Arial"/>
              </a:rPr>
              <a:t>Afsluiting door dagvoorzi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90648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9064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4040" y="1063800"/>
            <a:ext cx="1189368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es </a:t>
            </a: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ABVAKABO </a:t>
            </a:r>
            <a:r>
              <a:rPr b="1" i="1" lang="nl-NL" sz="6000" spc="-1" strike="noStrike">
                <a:solidFill>
                  <a:srgbClr val="ffffff"/>
                </a:solidFill>
                <a:latin typeface="Times New Roman"/>
              </a:rPr>
              <a:t>FNV </a:t>
            </a: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NOVON 15 april 200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De Vierde Tranche Aw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111560"/>
            <a:ext cx="10287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Ope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Edith Snoey, voorzitter ABVAKABO FNV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" y="90648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9064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4040" y="1063800"/>
            <a:ext cx="1189368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es </a:t>
            </a: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ABVAKABO </a:t>
            </a:r>
            <a:r>
              <a:rPr b="1" i="1" lang="nl-NL" sz="6000" spc="-1" strike="noStrike">
                <a:solidFill>
                  <a:srgbClr val="ffffff"/>
                </a:solidFill>
                <a:latin typeface="Times New Roman"/>
              </a:rPr>
              <a:t>FNV </a:t>
            </a: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NOVON 15 april 200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De Vierde Tranche Aw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111560"/>
            <a:ext cx="10287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Presentatie BM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drs. A. van Gorsel, directeur BM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90648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9064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4040" y="1063800"/>
            <a:ext cx="1189368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es </a:t>
            </a: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ABVAKABO </a:t>
            </a:r>
            <a:r>
              <a:rPr b="1" i="1" lang="nl-NL" sz="6000" spc="-1" strike="noStrike">
                <a:solidFill>
                  <a:srgbClr val="ffffff"/>
                </a:solidFill>
                <a:latin typeface="Times New Roman"/>
              </a:rPr>
              <a:t>FNV </a:t>
            </a: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NOVON 15 april 200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ff"/>
                </a:solidFill>
                <a:latin typeface="Times New Roman"/>
              </a:rPr>
              <a:t>De Vierde Tranche Aw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111560"/>
            <a:ext cx="10287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Dagafslui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mr. P.L.J. Verhoef, dagvoorzi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2:47:44Z</dcterms:created>
  <dc:creator>Sam Hoover</dc:creator>
  <dc:description/>
  <dc:language>en-US</dc:language>
  <cp:lastModifiedBy>rhdbeheer</cp:lastModifiedBy>
  <dcterms:modified xsi:type="dcterms:W3CDTF">2009-04-14T10:31:16Z</dcterms:modified>
  <cp:revision>38</cp:revision>
  <dc:subject/>
  <dc:title>PowerPoint Presentation</dc:title>
</cp:coreProperties>
</file>