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9CB-D292-4E9B-99E7-8E93548F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D2A-8359-4086-BB26-7E1AC6E0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465-0535-40E6-A2D6-63A9681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04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4956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488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1204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4956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025-7D01-4106-934F-F220F261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3CD-F0C8-4A08-993D-BB5A2592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0E0-7509-4237-A098-52CC448A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C82-7911-40B9-AFA8-855C767A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4ED-3FE4-476D-B5DD-A9461C70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4880" y="866880"/>
            <a:ext cx="11053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F7E-ECB3-4B33-9EAB-CE4EF20E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7AA-404B-46C3-8D3B-916FCD9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C87-09F9-4AF3-8ABA-A9B5182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461-AEF5-4DCC-8CBE-12790D4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824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665CAA29-B721-4D14-B229-F438C57E5355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9055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 gelegenheid van 15 jaar Contactgroep Algemeen Bestu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agvoorzitter: mr. P.L.J. Verho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Programma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0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Opening, door mevrouw Edith Snoey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voorzitter ABVAKABO F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10 uur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Presentatie BMC, door mevrouw drs. A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van Gorsel, directeur Ruimte en Wonen B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32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tranche Awb Handhaving, door prof. mr. drs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F.C.M.A. Michiels, hoogleraar Universiteit Tilb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1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Lunch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2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e tranche Awb Algemeen, door mr. ing. L.J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Wildeboer, advocaat CMS Derks Star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Busmann Ut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Programma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3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32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tranche Awb bestuursrechtelijke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geldschulden, door mevrouw mr. M. Bekooy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advocaat bij CMS Derks Star Busmann Arn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4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5.0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Implementatie bestuursrechtelijke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geldschulden, door mr. R. Oosterhof, B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5.45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Afsluiting door dagvoorz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Edith Snoey, voorzitter ABVAKABO FNV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Presentatie BM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rs. A. van Gorsel, directeur BM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agafslui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mr. P.L.J. Verhoef, dagvoorz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47:44Z</dcterms:created>
  <dc:creator>Sam Hoover</dc:creator>
  <dc:description/>
  <dc:language>en-US</dc:language>
  <cp:lastModifiedBy>rhdbeheer</cp:lastModifiedBy>
  <dcterms:modified xsi:type="dcterms:W3CDTF">2009-04-14T10:31:16Z</dcterms:modified>
  <cp:revision>38</cp:revision>
  <dc:subject/>
  <dc:title>PowerPoint Presentation</dc:title>
</cp:coreProperties>
</file>