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3003213" cy="9756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F396-ECCA-46A0-840F-8FA485FB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1105344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4880" y="5877000"/>
            <a:ext cx="1105344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F785-F8EB-4FED-9BB3-493C1ED9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38760" y="281952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4880" y="587700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38760" y="587700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43A3-0983-4C13-B3CA-8CD7D995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355896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2040" y="2819520"/>
            <a:ext cx="355896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49560" y="2819520"/>
            <a:ext cx="355896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4880" y="5877000"/>
            <a:ext cx="355896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12040" y="5877000"/>
            <a:ext cx="355896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49560" y="5877000"/>
            <a:ext cx="355896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B77-25CD-4864-B322-6AD2F018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4880" y="2819520"/>
            <a:ext cx="1105344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60BD-233B-45AC-9FF5-13C99BBB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11053440" cy="5852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EB6D-B199-43B2-842C-3CD650D6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5393880" cy="5852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38760" y="2819520"/>
            <a:ext cx="5393880" cy="5852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76EE-A94B-4101-8F91-5E610AC9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37AA-1B1A-4DC9-A77B-768431F4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4880" y="866880"/>
            <a:ext cx="11053440" cy="75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F399-B89D-4E96-9978-462B8E1C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8760" y="2819520"/>
            <a:ext cx="5393880" cy="5852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4880" y="587700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0832-0ADE-4CF7-9A2B-AB6831C8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5393880" cy="5852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8760" y="281952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38760" y="587700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4C0-15D9-4C45-90E8-B79DC244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38760" y="281952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4880" y="5877000"/>
            <a:ext cx="1105344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8FA7-A54F-4836-B352-DF96D650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4880" y="2819520"/>
            <a:ext cx="11053440" cy="5852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9000"/>
          </a:bodyPr>
          <a:p>
            <a:pPr marL="482400" indent="-482400">
              <a:spcBef>
                <a:spcPts val="1151"/>
              </a:spcBef>
              <a:buClr>
                <a:srgbClr val="000000"/>
              </a:buClr>
              <a:buFont typeface="Times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6520" indent="-402120">
              <a:spcBef>
                <a:spcPts val="1151"/>
              </a:spcBef>
              <a:buClr>
                <a:srgbClr val="000000"/>
              </a:buClr>
              <a:buFont typeface="Times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9200" indent="-321840">
              <a:spcBef>
                <a:spcPts val="1151"/>
              </a:spcBef>
              <a:buClr>
                <a:srgbClr val="000000"/>
              </a:buClr>
              <a:buFont typeface="Times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3" marL="2253600" indent="-321840">
              <a:spcBef>
                <a:spcPts val="1151"/>
              </a:spcBef>
              <a:buClr>
                <a:srgbClr val="000000"/>
              </a:buClr>
              <a:buFont typeface="Times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4" marL="2896200" indent="-321840">
              <a:spcBef>
                <a:spcPts val="1151"/>
              </a:spcBef>
              <a:buClr>
                <a:srgbClr val="000000"/>
              </a:buClr>
              <a:buFont typeface="Times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5" marL="2896200" indent="-321840">
              <a:spcBef>
                <a:spcPts val="1151"/>
              </a:spcBef>
              <a:buClr>
                <a:srgbClr val="000000"/>
              </a:buClr>
              <a:buFont typeface="Times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6" marL="2896200" indent="-321840">
              <a:spcBef>
                <a:spcPts val="1151"/>
              </a:spcBef>
              <a:buClr>
                <a:srgbClr val="000000"/>
              </a:buClr>
              <a:buFont typeface="Times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4520" y="8889840"/>
            <a:ext cx="2709720" cy="649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lstStyle>
            <a:lvl1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480" y="8889840"/>
            <a:ext cx="4116240" cy="649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lstStyle>
            <a:lvl1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8240" y="8889840"/>
            <a:ext cx="2709720" cy="649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lstStyle>
            <a:lvl1pPr indent="0" algn="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fld id="{F4804D6F-4EDA-49AC-927C-AF3487765F9B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443480" y="8889840"/>
            <a:ext cx="4116240" cy="649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algn="ctr"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74520" y="8889840"/>
            <a:ext cx="2709720" cy="649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90648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9064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4040" y="1063800"/>
            <a:ext cx="1189368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Implementatie Bestuursrechtelijke geldschulden 4</a:t>
            </a:r>
            <a:r>
              <a:rPr b="1" lang="en-US" sz="6000" spc="-1" strike="noStrike" baseline="30000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tranche Aw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111560"/>
            <a:ext cx="102870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e te komen tot een succesvolle en tijdige implementati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542680" y="9067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II. Financiële processen (2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2)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Lokale regelingen (inc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l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b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eleidsregel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- Financiële verordeningen (leges en heffingen 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- Subsidie(gerelateerde) regelingen (ASV,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subsidieregeling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- Regelingen waarbij vergoedingen centraal staan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(leerlingenvervoer, kinderopvang, inburg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- Overige regel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542680" y="9067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II. Financiële processen (3)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Welke consequenties heeft de invoering 4e tranche Awb voor procesbeschrijvingen en werkprocess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Wat moet worden gewijzigd/beschrev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Hierbij betrekken wijziging in lokale regelgeving (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Eventuele nieuwe processen?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542680" y="9067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52c59"/>
                </a:solidFill>
                <a:latin typeface="Arial"/>
              </a:rPr>
              <a:t>Denk verder aan: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Kennis &amp; vaardighed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I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Communicat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542680" y="9067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Kennis &amp; vaardighed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Organiseren van een training Awb voor financiële medewerkers (niet alleen afd. Financi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  <a:ea typeface="Arial"/>
              </a:rPr>
              <a:t>ë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n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Actualiteitenbijeenkomst intern naar behoef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Geef bekendheid aan gewijzigde regelgeving, procesbeschrijvingen etc. in werkoverlegg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542680" y="9067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I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Nagaan softwareleverancier wijziging pakket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Inventariseren noodzaak wijziging in softw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Zorgdragen voor tijdige implementatie wijzigin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542680" y="9067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Communicati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Bevorderen samenhang met implementatie 4e tranche handhaving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Communicatie met opdrachtg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Communicatie over voortgang project inter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Communicatie over wijzigingen regelingen, werkprocessen etc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542680" y="9067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Tips (1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Start gistere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Pak de implementatie projectmatig op en hanteer de spelregels van projectmatig wer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Zorg voor een organisatiebrede vertegenwoordiging in de projectgro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Heb je de basis al op orde dan scheelt dat de helft (+ voordeel digitaliseren regelingen)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542680" y="9067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Tips (2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Onderwerp is niet sexy dus investeer in draagvlak, hamer op noodzaak en enthousiasme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Investeer in bewustwording bij m.n. financiële (deel)afdelingen (vallen onder bereik Awb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Nog niet begonnen? Hoop op uitstel inwerkingtreding!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542680" y="9067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Bedankt voor uw </a:t>
            </a:r>
            <a:r>
              <a:rPr b="1" lang="en-US" sz="6000" spc="-1" strike="noStrike">
                <a:solidFill>
                  <a:srgbClr val="352c59"/>
                </a:solidFill>
                <a:latin typeface="Arial"/>
              </a:rPr>
              <a:t>aandacht </a:t>
            </a: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en succes met de implementatie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52c59"/>
                </a:solidFill>
                <a:latin typeface="Arial"/>
              </a:rPr>
              <a:t>Contactgegeve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52c59"/>
                </a:solidFill>
                <a:latin typeface="Arial"/>
              </a:rPr>
              <a:t>	</a:t>
            </a:r>
            <a:br>
              <a:rPr sz="2800"/>
            </a:br>
            <a:r>
              <a:rPr b="0" lang="nl-NL" sz="28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352c59"/>
                </a:solidFill>
                <a:latin typeface="Arial"/>
              </a:rPr>
              <a:t>mr. Remco Oosterh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352c59"/>
                </a:solidFill>
                <a:latin typeface="Arial"/>
              </a:rPr>
              <a:t>Marktgroepmanager Juridische Dienstverlening &amp; 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52c5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2c59"/>
                </a:solidFill>
                <a:latin typeface="Arial"/>
              </a:rPr>
              <a:t>(06) </a:t>
            </a:r>
            <a:r>
              <a:rPr b="0" lang="nl-NL" sz="2800" spc="-1" strike="noStrike">
                <a:solidFill>
                  <a:srgbClr val="352c59"/>
                </a:solidFill>
                <a:latin typeface="Arial"/>
              </a:rPr>
              <a:t>120 411 07 </a:t>
            </a:r>
            <a:r>
              <a:rPr b="0" lang="en-US" sz="2800" spc="-1" strike="noStrike">
                <a:solidFill>
                  <a:srgbClr val="352c59"/>
                </a:solidFill>
                <a:latin typeface="Arial"/>
              </a:rPr>
              <a:t>of </a:t>
            </a:r>
            <a:r>
              <a:rPr b="0" lang="nl-NL" sz="2800" spc="-1" strike="noStrike">
                <a:solidFill>
                  <a:srgbClr val="352c59"/>
                </a:solidFill>
                <a:latin typeface="Arial"/>
              </a:rPr>
              <a:t>(033</a:t>
            </a:r>
            <a:r>
              <a:rPr b="0" lang="en-US" sz="2800" spc="-1" strike="noStrike">
                <a:solidFill>
                  <a:srgbClr val="352c59"/>
                </a:solidFill>
                <a:latin typeface="Arial"/>
              </a:rPr>
              <a:t>) </a:t>
            </a:r>
            <a:r>
              <a:rPr b="0" lang="nl-NL" sz="2800" spc="-1" strike="noStrike">
                <a:solidFill>
                  <a:srgbClr val="352c59"/>
                </a:solidFill>
                <a:latin typeface="Arial"/>
              </a:rPr>
              <a:t>445 91 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352c59"/>
                </a:solidFill>
                <a:latin typeface="Arial"/>
              </a:rPr>
              <a:t>remcooosterhof@bmc.nl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506320" y="90676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52c5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Waar en hoe te starten?!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Implementeren of niets do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Gereed op datum iwtr. wet of later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Zelf doen of uitbested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- kennis, budget, participatie, besluitvorming, draagvl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Wie neemt voortouw? JZ of Fin?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Waar te beginn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- wettekst, MvT, googelen naar voorbeelden, leentjebu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Etc. et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506320" y="90676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52c59"/>
                </a:solidFill>
                <a:latin typeface="Arial"/>
              </a:rPr>
              <a:t>De uitdag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Essentie: 4e tranche Awb onderdeel bestuursrechtelijke geldschulden (BG) implemente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Kader 1: Wetsvoorstel 4e tranche Awb – B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(29 70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Kader 2: Aanpassingswet 4e tranche Awb – BG (31 124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506320" y="90676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52c59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Consequenties wetsvoorstell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4</a:t>
            </a:r>
            <a:r>
              <a:rPr b="0" lang="nl-NL" sz="4000" spc="-1" strike="noStrike" baseline="30000">
                <a:solidFill>
                  <a:srgbClr val="352c59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tranche Awb heeft consequenties voor lokale regelgeving (in ruime zi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4</a:t>
            </a:r>
            <a:r>
              <a:rPr b="0" lang="nl-NL" sz="4000" spc="-1" strike="noStrike" baseline="30000">
                <a:solidFill>
                  <a:srgbClr val="352c59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tranche Awb heeft consequenties voor financiële publiekrechtelijke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processen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Aanpassingswet wijzigt direct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verschillende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bijzondere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wetten </a:t>
            </a:r>
            <a:r>
              <a:rPr b="0" lang="nl-NL" sz="4000" spc="-1" strike="noStrike">
                <a:solidFill>
                  <a:srgbClr val="352c59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consequenties voor lokale regelgeving (in ruime zi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506320" y="90676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52c59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Niveaus van implementati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55800" y="5016600"/>
            <a:ext cx="2666880" cy="461880"/>
          </a:xfrm>
          <a:prstGeom prst="rect">
            <a:avLst/>
          </a:prstGeom>
          <a:solidFill>
            <a:srgbClr val="ed85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elij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5800" y="5791320"/>
            <a:ext cx="2665440" cy="2743200"/>
          </a:xfrm>
          <a:prstGeom prst="rect">
            <a:avLst/>
          </a:prstGeom>
          <a:solidFill>
            <a:srgbClr val="ed85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ka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27240" y="4245120"/>
            <a:ext cx="679320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ranche Awb – Aanpassingswet 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ranche A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5786280"/>
            <a:ext cx="4757760" cy="46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ordeningen / av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7327800"/>
            <a:ext cx="4751280" cy="46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ige B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8099280"/>
            <a:ext cx="4754520" cy="46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rkproces / procesbeschrij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72200" y="5016600"/>
            <a:ext cx="475128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tten in formele z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4707000"/>
            <a:ext cx="0" cy="359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5257800"/>
            <a:ext cx="728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72200" y="6558120"/>
            <a:ext cx="475308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eidsreg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134200" y="5478480"/>
            <a:ext cx="241560" cy="307800"/>
          </a:xfrm>
          <a:prstGeom prst="downArrow">
            <a:avLst>
              <a:gd name="adj1" fmla="val 50000"/>
              <a:gd name="adj2" fmla="val 318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34200" y="6248520"/>
            <a:ext cx="241560" cy="309600"/>
          </a:xfrm>
          <a:prstGeom prst="downArrow">
            <a:avLst>
              <a:gd name="adj1" fmla="val 50000"/>
              <a:gd name="adj2" fmla="val 320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134200" y="7020000"/>
            <a:ext cx="241560" cy="307800"/>
          </a:xfrm>
          <a:prstGeom prst="downArrow">
            <a:avLst>
              <a:gd name="adj1" fmla="val 50000"/>
              <a:gd name="adj2" fmla="val 318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134200" y="7790040"/>
            <a:ext cx="241560" cy="309240"/>
          </a:xfrm>
          <a:prstGeom prst="downArrow">
            <a:avLst>
              <a:gd name="adj1" fmla="val 50000"/>
              <a:gd name="adj2" fmla="val 32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134200" y="4707000"/>
            <a:ext cx="241560" cy="309600"/>
          </a:xfrm>
          <a:prstGeom prst="downArrow">
            <a:avLst>
              <a:gd name="adj1" fmla="val 50000"/>
              <a:gd name="adj2" fmla="val 320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6019920"/>
            <a:ext cx="728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6781680"/>
            <a:ext cx="728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7543800"/>
            <a:ext cx="728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8305920"/>
            <a:ext cx="728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506320" y="90676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Implementatie richten op</a:t>
            </a:r>
            <a:r>
              <a:rPr b="1" lang="en-US" sz="6000" spc="-1" strike="noStrike">
                <a:solidFill>
                  <a:srgbClr val="352c59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352c5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Wijziging regelgeving ca. op lokaal niveau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352c5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P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ubliekrechtelijke financiële processen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542680" y="9067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I</a:t>
            </a:r>
            <a:r>
              <a:rPr b="1" lang="en-US" sz="6000" spc="-1" strike="noStrike">
                <a:solidFill>
                  <a:srgbClr val="352c59"/>
                </a:solidFill>
                <a:latin typeface="Arial"/>
              </a:rPr>
              <a:t>.</a:t>
            </a: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 Wijziging regelgeving (1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Zijn alle regelingen in bee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Welke regelingen worden geraakt door de 4</a:t>
            </a:r>
            <a:r>
              <a:rPr b="0" lang="nl-NL" sz="4000" spc="-1" strike="noStrike" baseline="30000">
                <a:solidFill>
                  <a:srgbClr val="352c59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tranche Awb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Inventariseren noodzaak herziening regeling (art. 122 Gem.wet) of onderdelen er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Doorwerking wijziging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bijzondere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wetten in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lokale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regelingen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(Aanpassingswe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542680" y="9067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I. Wijziging regelgeving (2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Rekening houden met verplichtingen en beleidskeu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Verplichtingen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352c59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aanpassing rege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Beleidskeuzen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352c59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standpunt bepalen </a:t>
            </a:r>
            <a:r>
              <a:rPr b="0" lang="nl-NL" sz="4000" spc="-1" strike="noStrike">
                <a:solidFill>
                  <a:srgbClr val="352c59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indien gewenst aanpassen regel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Opstellen voorstel tot wijziging van de regeling(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Voorstel in procedure breng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542680" y="9067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II. Financiële processen (1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Nagaan wetten/regelingen ca. waarin publiekrechtelijke financiele stromingen vermeld staa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1) Wetten in formele zin / AMvB’s, o.a.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352c59"/>
                </a:solidFill>
                <a:latin typeface="Arial"/>
              </a:rPr>
              <a:t>Uitkering ingevolge de Ww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52c59"/>
                </a:solidFill>
                <a:latin typeface="Arial"/>
              </a:rPr>
              <a:t>- Financiële tegemoetkoming ingevolge de W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- Exploitatieplan </a:t>
            </a:r>
            <a:r>
              <a:rPr b="0" lang="en-US" sz="3200" spc="-1" strike="noStrike">
                <a:solidFill>
                  <a:srgbClr val="352c59"/>
                </a:solidFill>
                <a:latin typeface="Arial"/>
              </a:rPr>
              <a:t>ingevolge afd. 6.4 Wr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- Planschade</a:t>
            </a:r>
            <a:r>
              <a:rPr b="0" lang="en-US" sz="3200" spc="-1" strike="noStrike">
                <a:solidFill>
                  <a:srgbClr val="352c59"/>
                </a:solidFill>
                <a:latin typeface="Arial"/>
              </a:rPr>
              <a:t> ingevolge art. 6.1 W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2:47:44Z</dcterms:created>
  <dc:creator>Sam Hoover</dc:creator>
  <dc:description/>
  <dc:language>en-US</dc:language>
  <cp:lastModifiedBy>rhdbeheer</cp:lastModifiedBy>
  <dcterms:modified xsi:type="dcterms:W3CDTF">2009-04-14T08:46:11Z</dcterms:modified>
  <cp:revision>34</cp:revision>
  <dc:subject/>
  <dc:title>PowerPoint Presentation</dc:title>
</cp:coreProperties>
</file>