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0E3-8812-4514-AB41-53060EA1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C69-546D-4AB5-B5BD-C438FC5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3A2-BD7E-44E1-8E12-EE6DEF50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04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4956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488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1204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4956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FAC-621F-4CE3-A57F-E5A06C08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D22-8F35-49C9-B134-6AA751D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75F-B10D-41BB-9832-DE95815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4CB-936B-4765-9DF6-DB4A6CA1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1B4-AEC9-4B77-B104-1142DAD8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4880" y="866880"/>
            <a:ext cx="11053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E76-0A3E-45A6-B2A6-996CB58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C35-5AA8-492D-873E-1362737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90A-2CC0-4D37-ADCE-607751C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19B-6BA6-48F6-9204-9C561E2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824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F481B356-EACF-4F74-9DA0-B64805E02120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mplementatie Bestuursrechtelijke geldschulden 4</a:t>
            </a:r>
            <a:r>
              <a:rPr b="1" lang="en-US" sz="60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e te komen tot een succesvolle en tijdige implementati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2)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Lokale regelingen (inc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l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eleidsregel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Financiële verordeningen (leges en heffingen 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Subsidie(gerelateerde) regelingen (ASV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subsidieregelin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Regelingen waarbij vergoedingen centraal staan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(leerlingenvervoer, kinderopvang, inburg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Overige reg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3)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elke consequenties heeft de invoering 4e tranche Awb voor procesbeschrijvingen en werkprocess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at moet worden gewijzigd/beschrev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Hierbij betrekken wijziging in lokale regelgeving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ventuele nieuwe processen?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Denk verder aan: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ennis &amp; vaardigh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I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Communica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Kennis &amp; vaardighed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Organiseren van een training Awb voor financiële medewerkers (niet alleen afd. Financi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  <a:ea typeface="Arial"/>
              </a:rPr>
              <a:t>ë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Actualiteitenbijeenkomst intern naar behoef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Geef bekendheid aan gewijzigde regelgeving, procesbeschrijvingen etc. in werkoverleg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agaan softwareleverancier wijziging pakke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ntariseren noodzaak wijziging in soft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orgdragen voor tijdige implementatie wijzigin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Communicat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Bevorderen samenhang met implementatie 4e tranche handhaving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Communicatie met opdracht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Communicatie over voortgang project in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Communicatie over wijzigingen regelingen, werkprocessen etc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Tips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Start gister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Pak de implementatie projectmatig op en hanteer de spelregels van projectmatig wer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org voor een organisatiebrede vertegenwoordiging in de projectgro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Heb je de basis al op orde dan scheelt dat de helft (+ voordeel digitaliseren regelingen)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Tips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Onderwerp is niet sexy dus investeer in draagvlak, hamer op noodzaak en enthousiasme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steer in bewustwording bij m.n. financiële (deel)afdelingen (vallen onder bereik Awb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og niet begonnen? Hoop op uitstel inwerkingtreding!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Bedankt voor uw 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aandacht </a:t>
            </a: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en succes met de implementati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Contactgegev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br>
              <a:rPr sz="2800"/>
            </a:b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mr. Remco Oosterh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Marktgroepmanager Juridische Dienstverlening &amp;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(06)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120 411 07 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of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(033</a:t>
            </a: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) 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445 91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352c59"/>
                </a:solidFill>
                <a:latin typeface="Arial"/>
              </a:rPr>
              <a:t>remcooosterhof@bmc.nl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Waar en hoe te starten?!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mplementeren of niets do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Gereed op datum iwtr. wet of l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elf doen of uitbested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kennis, budget, participatie, besluitvorming, draagvl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ie neemt voortouw? JZ of Fin?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aar te beginn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wettekst, MvT, googelen naar voorbeelden, leentjeb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tc.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De uitdag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Essentie: 4e tranche Awb onderdeel bestuursrechtelijke geldschulden (BG) implemente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ader 1: Wetsvoorstel 4e tranche Awb – B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(29 70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Kader 2: Aanpassingswet 4e tranche Awb – BG (31 12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Consequenties wetsvoorstell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 heeft consequenties voor lokale regelgeving (in ruime z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 heeft consequenties voor financiële publiekrechtelijke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processen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Aanpassingswet wijzigt direct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verschillend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ijzonder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tten 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consequenties voor lokale regelgeving (in ruime z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2c5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Niveaus van implementat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55800" y="5016600"/>
            <a:ext cx="2666880" cy="461880"/>
          </a:xfrm>
          <a:prstGeom prst="rect">
            <a:avLst/>
          </a:prstGeom>
          <a:solidFill>
            <a:srgbClr val="ed8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eli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5800" y="5791320"/>
            <a:ext cx="2665440" cy="2743200"/>
          </a:xfrm>
          <a:prstGeom prst="rect">
            <a:avLst/>
          </a:prstGeom>
          <a:solidFill>
            <a:srgbClr val="ed8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k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27240" y="4245120"/>
            <a:ext cx="67932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ranche Awb – Aanpassingswet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ranche A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786280"/>
            <a:ext cx="475776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ordeningen / av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7327800"/>
            <a:ext cx="47512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ige 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8099280"/>
            <a:ext cx="475452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proces / procesbeschrij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5016600"/>
            <a:ext cx="47512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ten in formele z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4707000"/>
            <a:ext cx="0" cy="35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525780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6558120"/>
            <a:ext cx="475308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idsre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34200" y="5478480"/>
            <a:ext cx="241560" cy="307800"/>
          </a:xfrm>
          <a:prstGeom prst="downArrow">
            <a:avLst>
              <a:gd name="adj1" fmla="val 50000"/>
              <a:gd name="adj2" fmla="val 318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4200" y="6248520"/>
            <a:ext cx="241560" cy="309600"/>
          </a:xfrm>
          <a:prstGeom prst="downArrow">
            <a:avLst>
              <a:gd name="adj1" fmla="val 50000"/>
              <a:gd name="adj2" fmla="val 320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34200" y="7020000"/>
            <a:ext cx="241560" cy="307800"/>
          </a:xfrm>
          <a:prstGeom prst="downArrow">
            <a:avLst>
              <a:gd name="adj1" fmla="val 50000"/>
              <a:gd name="adj2" fmla="val 318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34200" y="7790040"/>
            <a:ext cx="241560" cy="309240"/>
          </a:xfrm>
          <a:prstGeom prst="downArrow">
            <a:avLst>
              <a:gd name="adj1" fmla="val 50000"/>
              <a:gd name="adj2" fmla="val 32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34200" y="4707000"/>
            <a:ext cx="241560" cy="309600"/>
          </a:xfrm>
          <a:prstGeom prst="downArrow">
            <a:avLst>
              <a:gd name="adj1" fmla="val 50000"/>
              <a:gd name="adj2" fmla="val 320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601992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6781680"/>
            <a:ext cx="728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754380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830592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mplementatie richten op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52c5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Wijziging regelgeving ca. op lokaal niveau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52c5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P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ubliekrechtelijke financiële process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</a:t>
            </a:r>
            <a:r>
              <a:rPr b="1" lang="en-US" sz="6000" spc="-1" strike="noStrike">
                <a:solidFill>
                  <a:srgbClr val="352c59"/>
                </a:solidFill>
                <a:latin typeface="Arial"/>
              </a:rPr>
              <a:t>.</a:t>
            </a: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 Wijziging regelgeving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Zijn alle regelingen in be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lke regelingen worden geraakt door de 4</a:t>
            </a:r>
            <a:r>
              <a:rPr b="0" lang="nl-NL" sz="40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tranche Aw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Inventariseren noodzaak herziening regeling (art. 122 Gem.wet) of onderdelen er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Doorwerking wijziging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bijzonder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wetten in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lokale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regeling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(Aanpassingswe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. Wijziging regelgeving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Rekening houden met verplichtingen en beleidskeu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Verplichting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aanpassing rege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Beleidskeuzen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standpunt bepalen </a:t>
            </a:r>
            <a:r>
              <a:rPr b="0" lang="nl-NL" sz="4000" spc="-1" strike="noStrike">
                <a:solidFill>
                  <a:srgbClr val="352c59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indien gewenst aanpassen regel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Opstellen voorstel tot wijziging van de regeling(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Voorstel in procedure breng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15-04-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2c59"/>
                </a:solidFill>
                <a:latin typeface="Arial"/>
              </a:rPr>
              <a:t>Implementatie Bestuursrechtelijke Geldschu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42680" y="9067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II. Financiële processen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52c59"/>
                </a:solidFill>
                <a:latin typeface="Arial"/>
              </a:rPr>
              <a:t>Nagaan wetten/regelingen ca. waarin publiekrechtelijke financiele stromingen vermeld sta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1) Wetten in formele zin / AMvB’s, o.a.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Uitkering ingevolge de Ww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- Financiële tegemoetkoming ingevolge de W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Exploitatieplan 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ingevolge afd. 6.4 W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- Planschade</a:t>
            </a:r>
            <a:r>
              <a:rPr b="0" lang="en-US" sz="3200" spc="-1" strike="noStrike">
                <a:solidFill>
                  <a:srgbClr val="352c59"/>
                </a:solidFill>
                <a:latin typeface="Arial"/>
              </a:rPr>
              <a:t> ingevolge art. 6.1 W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47:44Z</dcterms:created>
  <dc:creator>Sam Hoover</dc:creator>
  <dc:description/>
  <dc:language>en-US</dc:language>
  <cp:lastModifiedBy>rhdbeheer</cp:lastModifiedBy>
  <dcterms:modified xsi:type="dcterms:W3CDTF">2009-04-14T08:46:11Z</dcterms:modified>
  <cp:revision>34</cp:revision>
  <dc:subject/>
  <dc:title>PowerPoint Presentation</dc:title>
</cp:coreProperties>
</file>