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813C-7100-4BA9-B792-8D73886C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09E3F-9628-4550-AF0F-CA3A25BB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BC3B7-7AF6-48B3-A8C6-0E836310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B2F3-4DCC-41A8-80C8-54205633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18590-7134-467E-A296-D71BB9F3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A770-33EF-4BDC-989F-BDDCC443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94B1-66D3-4279-AD70-1E8DEA1B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D5113-0B3B-45B3-A46F-2A560669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B432E-A997-48BD-B74C-C7529D1D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1BD80-FEF7-4930-B6EC-692DB962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13268-3D8F-4484-B687-931837E5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0D32D-96AB-48FB-9A8D-7CB9E8DB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b8b0aa"/>
          </a:solidFill>
          <a:ln w="9360">
            <a:solidFill>
              <a:srgbClr val="b8b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1" marL="900000" indent="-363600">
              <a:spcBef>
                <a:spcPts val="601"/>
              </a:spcBef>
              <a:buClr>
                <a:srgbClr val="344d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2" marL="1523880" indent="-357120">
              <a:spcBef>
                <a:spcPts val="601"/>
              </a:spcBef>
              <a:buClr>
                <a:srgbClr val="344d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3" marL="2060640" indent="-357120">
              <a:spcBef>
                <a:spcPts val="601"/>
              </a:spcBef>
              <a:buClr>
                <a:srgbClr val="344d8c"/>
              </a:buClr>
              <a:buFont typeface="Wingdings 3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4" marL="2598840" indent="-358920">
              <a:spcBef>
                <a:spcPts val="601"/>
              </a:spcBef>
              <a:buClr>
                <a:srgbClr val="344d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5" marL="2598840" indent="-3589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6" marL="2598840" indent="-3589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6440" y="6357960"/>
            <a:ext cx="201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344d8c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44d8c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625840" y="6365880"/>
            <a:ext cx="107928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44d8c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44d8c"/>
                </a:solidFill>
                <a:latin typeface="Arial"/>
                <a:ea typeface="Arial"/>
              </a:rPr>
              <a:t>Slide </a:t>
            </a:r>
            <a:fld id="{696CADD3-A679-49DB-BA21-EE668E018BC6}" type="slidenum">
              <a:rPr b="0" lang="en-GB" sz="1000" spc="-1" strike="noStrike">
                <a:solidFill>
                  <a:srgbClr val="344d8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067280" y="6367320"/>
            <a:ext cx="461952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44d8c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4d8c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32360" y="115920"/>
            <a:ext cx="405144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852640"/>
            <a:ext cx="9144000" cy="4032360"/>
          </a:xfrm>
          <a:prstGeom prst="rect">
            <a:avLst/>
          </a:prstGeom>
          <a:solidFill>
            <a:srgbClr val="b8b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91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5414040" y="3118320"/>
            <a:ext cx="6885000" cy="647640"/>
          </a:xfrm>
          <a:prstGeom prst="rtTriangle">
            <a:avLst/>
          </a:prstGeom>
          <a:solidFill>
            <a:srgbClr val="344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-1513080" y="1449360"/>
            <a:ext cx="3600360" cy="647640"/>
          </a:xfrm>
          <a:prstGeom prst="rtTriangle">
            <a:avLst/>
          </a:prstGeom>
          <a:solidFill>
            <a:srgbClr val="344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56080" y="1268280"/>
            <a:ext cx="4340160" cy="3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aike.bekooy@cms-dsb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922400"/>
            <a:ext cx="7315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UURSRECHTELIJKE GELDSCHUL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ike Beko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maaike.bekooy@cms-dsb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15 april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4d8c"/>
                </a:solidFill>
                <a:latin typeface="Arial"/>
              </a:rPr>
              <a:t>BESTUURSRECHTELIJKE GELDSCHULDEN</a:t>
            </a:r>
            <a:endParaRPr b="0" lang="en-US" sz="28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44d8c"/>
                </a:solidFill>
                <a:latin typeface="Arial"/>
              </a:rPr>
              <a:t>Harmonisatie en systematisering invorderingen geldschulden overheid bij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44d8c"/>
                </a:solidFill>
                <a:latin typeface="Arial"/>
              </a:rPr>
              <a:t>vierde tranche Awb (TK 1993-1994, 23 700 A)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44d8c"/>
                </a:solidFill>
                <a:latin typeface="Arial"/>
              </a:rPr>
              <a:t>Huidige situatie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344d8c"/>
                </a:solidFill>
                <a:latin typeface="Arial"/>
              </a:rPr>
              <a:t>regeling bijzondere wetgeving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344d8c"/>
                </a:solidFill>
                <a:latin typeface="Arial"/>
              </a:rPr>
              <a:t>geen regeling; dan (voorzover mogelijk) BW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44d8c"/>
                </a:solidFill>
                <a:latin typeface="Arial"/>
              </a:rPr>
              <a:t>Doel regeling 4e Tranche Awb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344d8c"/>
                </a:solidFill>
                <a:latin typeface="Arial"/>
              </a:rPr>
              <a:t>rechtszekerheid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344d8c"/>
                </a:solidFill>
                <a:latin typeface="Arial"/>
              </a:rPr>
              <a:t>rechtseenheid </a:t>
            </a:r>
            <a:br>
              <a:rPr sz="1800"/>
            </a:br>
            <a:r>
              <a:rPr b="0" lang="nl-NL" sz="1800" spc="-1" strike="noStrike">
                <a:solidFill>
                  <a:srgbClr val="344d8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44d8c"/>
                </a:solidFill>
                <a:latin typeface="Arial"/>
              </a:rPr>
              <a:t>Uitgangspunt regeling bestuursrechtelijke geldschulden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</a:rPr>
              <a:t>toepasselijkheid BW in bestuursrecht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</a:rPr>
              <a:t>geen nodeloze verschillen tussen BW en Awb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lvl="1" marL="900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lvl="1" marL="900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4d8c"/>
                </a:solidFill>
                <a:latin typeface="Arial"/>
              </a:rPr>
              <a:t>TITEL 4.4 BESTUURSRECHTELIJKE GELDSCHULDEN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Titel 4.4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4.4.1 Vaststelling en inhoud verplichting betal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4.4.2 Verzuim en wettelijke rente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4.4.3 Verjar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4.4.4 Aanmaning en invordering bij dwangbevel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Wat zijn bestuursrechtelijke betalingsverplichtingen?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geldschulden van en aan een bestuursorgaa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niet-naleven bestuursrechtelijke rechtsnorm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gebruikmaken van collectieve voorziening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verhoudingen tussen overheden onderl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Vermogensrechtelijke ‘toerekening’ bestuursorgaan -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rechtspersoon (art. 1:1 lid 4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49000"/>
            <a:ext cx="854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4d8c"/>
                </a:solidFill>
                <a:latin typeface="Arial"/>
              </a:rPr>
              <a:t>ONTSTAAN BESTUURSRECHTELIJKE GELDSCHULDEN</a:t>
            </a:r>
            <a:endParaRPr b="0" lang="en-US" sz="28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Twee categorieën bestuursrechtelijke betalingsverplichtingen (art.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4:85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betalingsverplichting bij wet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betalingsverplichting bij beschikk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Vereiste: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besluit appellabel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Kenmerk: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bestuursrechtelijke grondsla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Hoofdregel betalingsbeschikking (art. 4:86 Awb), inhoud: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geldsom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betalingstermijn in beginsel 6 weken (art. 4:87 Awb)</a:t>
            </a:r>
            <a:br>
              <a:rPr sz="2000"/>
            </a:b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Hoofdregel: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aanvang termijn bekendmaking beschikk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wettelijke grondsla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4d8c"/>
                </a:solidFill>
                <a:latin typeface="Arial"/>
                <a:ea typeface="Times New Roman"/>
              </a:rPr>
              <a:t>WIJZE VAN BETALING</a:t>
            </a:r>
            <a:r>
              <a:rPr b="0" lang="en-US" sz="2800" spc="-1" strike="noStrike">
                <a:solidFill>
                  <a:srgbClr val="344d8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Hoofdregel girale betaling (art.4:89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etaling: bijschrijving rekening schuldeiser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etaling aan ander dan schuldeiser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etalingsmogelijkheden: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verrekening indien bij wettelijk voorschrift bepaald (art. 4:93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uitstel betaling (art. 4:94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verlening voorschot (art. 4:95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intrekken uitstel betaling of verlening voorschot (art. 4:96 Awb)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4d8c"/>
                </a:solidFill>
                <a:latin typeface="Arial"/>
                <a:ea typeface="Times New Roman"/>
              </a:rPr>
              <a:t>VERZUIM EN WETTELIJKE RENTE</a:t>
            </a:r>
            <a:endParaRPr b="0" lang="en-US" sz="28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Verzuim bij niet-tijdige betaling (art. 4:97 Awb), gevol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vanaf dag na verstrijken betalingstermijn wettelijke rente verschuldigd, tenzij geldsom &gt; € 20 of  € 10 (bestuursorgaan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Vaststellen verschuldigde wettelijke rente bij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eschikking (art. 4:99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verplichting bestuursorgaan vergoeden wettelijke rente na verzuim t.a.v. niet-tijdig nemen betalingsbeschikking 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hoofdregel: wettelijke rente verschuldigd over periode uitstel van betaling of schorsing betalingsverplicht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Afwijking regeling verzuim + wettelijke rente mogelijk bij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ijzondere wet (art. 4:103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4d8c"/>
                </a:solidFill>
                <a:latin typeface="Arial"/>
                <a:ea typeface="Times New Roman"/>
              </a:rPr>
              <a:t>VERJARING</a:t>
            </a:r>
            <a:endParaRPr b="0" lang="en-US" sz="28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Verjaring rechtsvordering (art. 4:104 Awb)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5 jaren na verstrijken betalingstermijn, tenzij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verlenging bij uitstel van betaling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Stuiting (art. 4:110 Awb)</a:t>
            </a:r>
            <a:r>
              <a:rPr b="0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breekt lopende verjaring af 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daags na stuiting aanvang nieuwe verjaringstermijn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Stuitingsgronden (art. 4:105 t/m 4:107 Awb e.v.)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daad van rechtsvervolging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erkenning recht op betaling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aanmaning, beschikking tot verrekening of uitvaardigen/tenuitvoerlegging dwangbevel (bestuursorgaan)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44d8c"/>
                </a:solidFill>
                <a:latin typeface="Arial"/>
                <a:ea typeface="Times New Roman"/>
              </a:rPr>
              <a:t>schriftelijke aanmaning of mededeling ondubbelzinnig recht op betaling (schuldeiser)</a:t>
            </a: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  <a:p>
            <a:pPr lvl="1" marL="900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4d8c"/>
                </a:solidFill>
                <a:latin typeface="Arial"/>
                <a:ea typeface="Times New Roman"/>
              </a:rPr>
              <a:t>AANMANING EN INVORDERING</a:t>
            </a:r>
            <a:endParaRPr b="0" lang="en-US" sz="28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Aanmaning (art. 4:112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een of meerdere bestuurlijke geldboetes betalen binnen 2 weken;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anders invorderingsmaatregelen (o.a. dwangbevel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Invordering bij dwangbevel (art. 4:114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als binnen aanmaningstermijn niet volledig is betaald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afdwingen betal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executoriale titel ex art. 430 Rv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ekendmaking dwangbevel bij exploot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Executiegeschil (438 Rv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dagvaardingsprocedure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aanhangig maken binnen redelijke termijn (abb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geen schorsende werk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gericht tegen tenuitvoerlegging executoriale titel (dwangbevel) 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44d8c"/>
                </a:solidFill>
                <a:latin typeface="Arial"/>
                <a:ea typeface="Times New Roman"/>
              </a:rPr>
              <a:t>Bezwaar, beroep of hoger beroep (art. 4:125 Awb)</a:t>
            </a:r>
            <a:endParaRPr b="0" lang="en-US" sz="28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etalingsbeschikking + bijkomende beschikkingen = éé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esluit, mits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procedure aanhangig is tegen betalingsbeschikk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ijkomende beschikkingen van hetzelfde bestuursorgaa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eroep tegen bijkomende beschikking in schriftelijk processtuk of tijdens zitt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eroep tegen bijkomende beschikking wordt ook geacht te zijn gericht tegen latere bijkomende beschikking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Uitz.: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 zelfstandig beroep tegen bijkomende beschikking als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betalingsbeschikking formele rechtskracht heeft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Aanmaning+dwangbevel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niet voorafgaand horen i.v.m. zienswijze (art. 4:8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b9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  <a:ea typeface="Times New Roman"/>
              </a:rPr>
              <a:t>niet vatbaar voor beroep (art. 8:4 Awb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8:58:32Z</dcterms:created>
  <dc:creator> </dc:creator>
  <dc:description> </dc:description>
  <dc:language>en-US</dc:language>
  <cp:lastModifiedBy/>
  <dcterms:modified xsi:type="dcterms:W3CDTF">2009-04-14T08:58:32Z</dcterms:modified>
  <cp:revision>1</cp:revision>
  <dc:subject> </dc:subject>
  <dc:title> </dc:title>
</cp:coreProperties>
</file>