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FEBA9-26CD-4A9D-AA7D-D8EA5B138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040E3-E9BD-4504-80F5-24349BAF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2C909-6A84-424B-B1E8-698A05FC7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6BFF9-B41E-494F-98F4-6E96D56C1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DA6FC-8CA2-4EA6-8379-4E51EDCE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986EA-35B7-43AC-83A4-F83B928C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FCA6F-5BE1-4D5A-B573-4CEEB231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C0A1A-9A6C-4FC8-B119-5F057564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C1C47-0275-4F0B-9158-2D74973C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9F587-7D81-4636-835C-BE3008C2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118DE-FB7A-48C8-9CC7-81180A4B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A3D9B-16FD-4A31-ABAF-FAABD4C6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b8b0aa"/>
          </a:solidFill>
          <a:ln w="9360">
            <a:solidFill>
              <a:srgbClr val="b8b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4d8c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4d8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  <a:p>
            <a:pPr lvl="1" marL="900000" indent="-363600">
              <a:spcBef>
                <a:spcPts val="601"/>
              </a:spcBef>
              <a:buClr>
                <a:srgbClr val="344d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4d8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  <a:p>
            <a:pPr lvl="2" marL="1523880" indent="-357120">
              <a:spcBef>
                <a:spcPts val="601"/>
              </a:spcBef>
              <a:buClr>
                <a:srgbClr val="344d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4d8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  <a:p>
            <a:pPr lvl="3" marL="2060640" indent="-357120">
              <a:spcBef>
                <a:spcPts val="601"/>
              </a:spcBef>
              <a:buClr>
                <a:srgbClr val="344d8c"/>
              </a:buClr>
              <a:buFont typeface="Wingdings 3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4d8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  <a:p>
            <a:pPr lvl="4" marL="2598840" indent="-358920">
              <a:spcBef>
                <a:spcPts val="601"/>
              </a:spcBef>
              <a:buClr>
                <a:srgbClr val="344d8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4d8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  <a:p>
            <a:pPr lvl="5" marL="2598840" indent="-3589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4d8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  <a:p>
            <a:pPr lvl="6" marL="2598840" indent="-3589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4d8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6440" y="6357960"/>
            <a:ext cx="2016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344d8c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44d8c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2625840" y="6365880"/>
            <a:ext cx="107928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344d8c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44d8c"/>
                </a:solidFill>
                <a:latin typeface="Arial"/>
                <a:ea typeface="Arial"/>
              </a:rPr>
              <a:t>Slide </a:t>
            </a:r>
            <a:fld id="{49C22E22-75F3-4291-8B4D-75A1D385F3D5}" type="slidenum">
              <a:rPr b="0" lang="en-GB" sz="1000" spc="-1" strike="noStrike">
                <a:solidFill>
                  <a:srgbClr val="344d8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4067280" y="6367320"/>
            <a:ext cx="4619520" cy="2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44d8c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44d8c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932360" y="115920"/>
            <a:ext cx="405144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852640"/>
            <a:ext cx="9144000" cy="4032360"/>
          </a:xfrm>
          <a:prstGeom prst="rect">
            <a:avLst/>
          </a:prstGeom>
          <a:solidFill>
            <a:srgbClr val="b8b0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911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4d8c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6200000">
            <a:off x="5414040" y="3118320"/>
            <a:ext cx="6885000" cy="647640"/>
          </a:xfrm>
          <a:prstGeom prst="rtTriangle">
            <a:avLst/>
          </a:prstGeom>
          <a:solidFill>
            <a:srgbClr val="344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-1513080" y="1449360"/>
            <a:ext cx="3600360" cy="647640"/>
          </a:xfrm>
          <a:prstGeom prst="rtTriangle">
            <a:avLst/>
          </a:prstGeom>
          <a:solidFill>
            <a:srgbClr val="344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56080" y="1268280"/>
            <a:ext cx="4340160" cy="36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aaike.bekooy@cms-dsb.co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1922400"/>
            <a:ext cx="7315200" cy="33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STUURSRECHTELIJKE GELDSCHUL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aike Beko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maaike.bekooy@cms-dsb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15 april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4d8c"/>
                </a:solidFill>
                <a:latin typeface="Arial"/>
              </a:rPr>
              <a:t>BESTUURSRECHTELIJKE GELDSCHULDEN</a:t>
            </a:r>
            <a:endParaRPr b="0" lang="en-US" sz="28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44d8c"/>
                </a:solidFill>
                <a:latin typeface="Arial"/>
              </a:rPr>
              <a:t>Harmonisatie en systematisering invorderingen geldschulden overheid bij</a:t>
            </a: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44d8c"/>
                </a:solidFill>
                <a:latin typeface="Arial"/>
              </a:rPr>
              <a:t>vierde tranche Awb (TK 1993-1994, 23 700 A)</a:t>
            </a: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44d8c"/>
                </a:solidFill>
                <a:latin typeface="Arial"/>
              </a:rPr>
              <a:t>Huidige situatie</a:t>
            </a: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44d8c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344d8c"/>
                </a:solidFill>
                <a:latin typeface="Arial"/>
              </a:rPr>
              <a:t>regeling bijzondere wetgeving</a:t>
            </a: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44d8c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344d8c"/>
                </a:solidFill>
                <a:latin typeface="Arial"/>
              </a:rPr>
              <a:t>geen regeling; dan (voorzover mogelijk) BW</a:t>
            </a: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44d8c"/>
                </a:solidFill>
                <a:latin typeface="Arial"/>
              </a:rPr>
              <a:t>Doel regeling 4e Tranche Awb</a:t>
            </a: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44d8c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344d8c"/>
                </a:solidFill>
                <a:latin typeface="Arial"/>
              </a:rPr>
              <a:t>rechtszekerheid</a:t>
            </a: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44d8c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344d8c"/>
                </a:solidFill>
                <a:latin typeface="Arial"/>
              </a:rPr>
              <a:t>rechtseenheid </a:t>
            </a:r>
            <a:br>
              <a:rPr sz="1800"/>
            </a:br>
            <a:r>
              <a:rPr b="0" lang="nl-NL" sz="1800" spc="-1" strike="noStrike">
                <a:solidFill>
                  <a:srgbClr val="344d8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44d8c"/>
                </a:solidFill>
                <a:latin typeface="Arial"/>
              </a:rPr>
              <a:t>Uitgangspunt regeling bestuursrechtelijke geldschulden</a:t>
            </a: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44d8c"/>
                </a:solidFill>
                <a:latin typeface="Arial"/>
              </a:rPr>
              <a:t>toepasselijkheid BW in bestuursrecht</a:t>
            </a: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44d8c"/>
                </a:solidFill>
                <a:latin typeface="Arial"/>
              </a:rPr>
              <a:t>geen nodeloze verschillen tussen BW en Awb</a:t>
            </a: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lvl="1" marL="900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lvl="1" marL="900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4d8c"/>
                </a:solidFill>
                <a:latin typeface="Arial"/>
              </a:rPr>
              <a:t>TITEL 4.4 BESTUURSRECHTELIJKE GELDSCHULDEN</a:t>
            </a: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</a:rPr>
              <a:t>Titel 4.4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4.4.1 Vaststelling en inhoud verplichting betaling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4.4.2 Verzuim en wettelijke rente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4.4.3 Verjaring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4.4.4 Aanmaning en invordering bij dwangbevel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</a:rPr>
              <a:t>Wat zijn bestuursrechtelijke betalingsverplichtingen?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geldschulden van en aan een bestuursorgaan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niet-naleven bestuursrechtelijke rechtsnorm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gebruikmaken van collectieve voorzieningen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verhoudingen tussen overheden onderling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</a:rPr>
              <a:t>Vermogensrechtelijke ‘toerekening’ bestuursorgaan -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</a:rPr>
              <a:t>rechtspersoon (art. 1:1 lid 4 Awb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549000"/>
            <a:ext cx="854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4d8c"/>
                </a:solidFill>
                <a:latin typeface="Arial"/>
              </a:rPr>
              <a:t>ONTSTAAN BESTUURSRECHTELIJKE GELDSCHULDEN</a:t>
            </a:r>
            <a:endParaRPr b="0" lang="en-US" sz="28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</a:rPr>
              <a:t>Twee categorieën bestuursrechtelijke betalingsverplichtingen (art.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</a:rPr>
              <a:t>4:85 Awb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betalingsverplichting bij wet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betalingsverplichting bij beschikking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344d8c"/>
                </a:solidFill>
                <a:latin typeface="Arial"/>
              </a:rPr>
              <a:t>Vereiste: 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besluit appellabel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</a:rPr>
              <a:t>Kenmerk: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 bestuursrechtelijke grondslag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</a:rPr>
              <a:t>Hoofdregel betalingsbeschikking (art. 4:86 Awb), inhoud: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geldsom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betalingstermijn in beginsel 6 weken (art. 4:87 Awb)</a:t>
            </a:r>
            <a:br>
              <a:rPr sz="2000"/>
            </a:b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344d8c"/>
                </a:solidFill>
                <a:latin typeface="Arial"/>
              </a:rPr>
              <a:t>Hoofdregel: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 aanvang termijn bekendmaking beschikking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wettelijke grondslag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4d8c"/>
                </a:solidFill>
                <a:latin typeface="Arial"/>
                <a:ea typeface="Times New Roman"/>
              </a:rPr>
              <a:t>WIJZE VAN BETALING</a:t>
            </a:r>
            <a:r>
              <a:rPr b="0" lang="en-US" sz="2800" spc="-1" strike="noStrike">
                <a:solidFill>
                  <a:srgbClr val="344d8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Hoofdregel girale betaling (art.4:89 Awb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betaling: bijschrijving rekening schuldeiser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betaling aan ander dan schuldeiser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Betalingsmogelijkheden: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verrekening indien bij wettelijk voorschrift bepaald (art. 4:93 Awb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uitstel betaling (art. 4:94 Awb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verlening voorschot (art. 4:95 Awb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intrekken uitstel betaling of verlening voorschot (art. 4:96 Awb)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4d8c"/>
                </a:solidFill>
                <a:latin typeface="Arial"/>
                <a:ea typeface="Times New Roman"/>
              </a:rPr>
              <a:t>VERZUIM EN WETTELIJKE RENTE</a:t>
            </a:r>
            <a:endParaRPr b="0" lang="en-US" sz="28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Verzuim bij niet-tijdige betaling (art. 4:97 Awb), gevolg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vanaf dag na verstrijken betalingstermijn wettelijke rente verschuldigd, tenzij geldsom &gt; € 20 of  € 10 (bestuursorgaan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Vaststellen verschuldigde wettelijke rente bij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beschikking (art. 4:99 Awb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verplichting bestuursorgaan vergoeden wettelijke rente na verzuim t.a.v. niet-tijdig nemen betalingsbeschikking 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hoofdregel: wettelijke rente verschuldigd over periode uitstel van betaling of schorsing betalingsverplichting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Afwijking regeling verzuim + wettelijke rente mogelijk bij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bijzondere wet (art. 4:103 Awb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4d8c"/>
                </a:solidFill>
                <a:latin typeface="Arial"/>
                <a:ea typeface="Times New Roman"/>
              </a:rPr>
              <a:t>VERJARING</a:t>
            </a:r>
            <a:endParaRPr b="0" lang="en-US" sz="28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44d8c"/>
                </a:solidFill>
                <a:latin typeface="Arial"/>
                <a:ea typeface="Times New Roman"/>
              </a:rPr>
              <a:t>Verjaring rechtsvordering (art. 4:104 Awb)</a:t>
            </a: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44d8c"/>
                </a:solidFill>
                <a:latin typeface="Arial"/>
                <a:ea typeface="Times New Roman"/>
              </a:rPr>
              <a:t>5 jaren na verstrijken betalingstermijn, tenzij</a:t>
            </a: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44d8c"/>
                </a:solidFill>
                <a:latin typeface="Arial"/>
                <a:ea typeface="Times New Roman"/>
              </a:rPr>
              <a:t>verlenging bij uitstel van betaling</a:t>
            </a: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44d8c"/>
                </a:solidFill>
                <a:latin typeface="Arial"/>
                <a:ea typeface="Times New Roman"/>
              </a:rPr>
              <a:t>Stuiting (art. 4:110 Awb)</a:t>
            </a:r>
            <a:r>
              <a:rPr b="0" lang="nl-NL" sz="1800" spc="-1" strike="noStrike">
                <a:solidFill>
                  <a:srgbClr val="344d8c"/>
                </a:solidFill>
                <a:latin typeface="Arial"/>
                <a:ea typeface="Times New Roman"/>
              </a:rPr>
              <a:t>  </a:t>
            </a: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44d8c"/>
                </a:solidFill>
                <a:latin typeface="Arial"/>
                <a:ea typeface="Times New Roman"/>
              </a:rPr>
              <a:t>breekt lopende verjaring af </a:t>
            </a: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44d8c"/>
                </a:solidFill>
                <a:latin typeface="Arial"/>
                <a:ea typeface="Times New Roman"/>
              </a:rPr>
              <a:t>daags na stuiting aanvang nieuwe verjaringstermijn</a:t>
            </a: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44d8c"/>
                </a:solidFill>
                <a:latin typeface="Arial"/>
                <a:ea typeface="Times New Roman"/>
              </a:rPr>
              <a:t>Stuitingsgronden (art. 4:105 t/m 4:107 Awb e.v.)</a:t>
            </a: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44d8c"/>
                </a:solidFill>
                <a:latin typeface="Arial"/>
                <a:ea typeface="Times New Roman"/>
              </a:rPr>
              <a:t>daad van rechtsvervolging</a:t>
            </a: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44d8c"/>
                </a:solidFill>
                <a:latin typeface="Arial"/>
                <a:ea typeface="Times New Roman"/>
              </a:rPr>
              <a:t>erkenning recht op betaling</a:t>
            </a: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44d8c"/>
                </a:solidFill>
                <a:latin typeface="Arial"/>
                <a:ea typeface="Times New Roman"/>
              </a:rPr>
              <a:t>aanmaning, beschikking tot verrekening of uitvaardigen/tenuitvoerlegging dwangbevel (bestuursorgaan)</a:t>
            </a: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44d8c"/>
                </a:solidFill>
                <a:latin typeface="Arial"/>
                <a:ea typeface="Times New Roman"/>
              </a:rPr>
              <a:t>schriftelijke aanmaning of mededeling ondubbelzinnig recht op betaling (schuldeiser)</a:t>
            </a: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lvl="1" marL="900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4d8c"/>
                </a:solidFill>
                <a:latin typeface="Arial"/>
                <a:ea typeface="Times New Roman"/>
              </a:rPr>
              <a:t>AANMANING EN INVORDERING</a:t>
            </a:r>
            <a:endParaRPr b="0" lang="en-US" sz="28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Aanmaning (art. 4:112 Awb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een of meerdere bestuurlijke geldboetes betalen binnen 2 weken;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anders invorderingsmaatregelen (o.a. dwangbevel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Invordering bij dwangbevel (art. 4:114 Awb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als binnen aanmaningstermijn niet volledig is betaald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afdwingen betaling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executoriale titel ex art. 430 Rv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bekendmaking dwangbevel bij exploot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Executiegeschil (438 Rv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dagvaardingsprocedure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aanhangig maken binnen redelijke termijn (abbb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geen schorsende werking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gericht tegen tenuitvoerlegging executoriale titel (dwangbevel) 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44d8c"/>
                </a:solidFill>
                <a:latin typeface="Arial"/>
                <a:ea typeface="Times New Roman"/>
              </a:rPr>
              <a:t>Bezwaar, beroep of hoger beroep (art. 4:125 Awb)</a:t>
            </a:r>
            <a:endParaRPr b="0" lang="en-US" sz="28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Betalingsbeschikking + bijkomende beschikkingen = één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besluit, mits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procedure aanhangig is tegen betalingsbeschikking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bijkomende beschikkingen van hetzelfde bestuursorgaan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beroep tegen bijkomende beschikking in schriftelijk processtuk of tijdens zitting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beroep tegen bijkomende beschikking wordt ook geacht te zijn gericht tegen latere bijkomende beschikkingen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Uitz.: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 zelfstandig beroep tegen bijkomende beschikking als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betalingsbeschikking formele rechtskracht heeft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Aanmaning+dwangbevel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niet voorafgaand horen i.v.m. zienswijze (art. 4:8 Awb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niet vatbaar voor beroep (art. 8:4 Awb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08:58:32Z</dcterms:created>
  <dc:creator> </dc:creator>
  <dc:description> </dc:description>
  <dc:language>en-US</dc:language>
  <cp:lastModifiedBy/>
  <dcterms:modified xsi:type="dcterms:W3CDTF">2009-04-14T08:58:32Z</dcterms:modified>
  <cp:revision>1</cp:revision>
  <dc:subject> </dc:subject>
  <dc:title> </dc:title>
</cp:coreProperties>
</file>