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a50021"/>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F23A-F464-410C-9E0F-DBA39C51C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0938-B046-40AC-B31F-0FBEDFD241B7}"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2600" cy="3722760"/>
          </a:xfrm>
          <a:prstGeom prst="rect">
            <a:avLst/>
          </a:prstGeom>
          <a:ln w="0">
            <a:noFill/>
          </a:ln>
        </p:spPr>
      </p:sp>
      <p:sp>
        <p:nvSpPr>
          <p:cNvPr id="13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E8C8-4189-4D52-8626-086178B98230}"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32" name="Tijdelijke aanduiding voor notities 4"/>
          <p:cNvSpPr/>
          <p:nvPr/>
        </p:nvSpPr>
        <p:spPr>
          <a:xfrm>
            <a:off x="660240" y="4791240"/>
            <a:ext cx="5438880" cy="44672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ij incidenten of rampen wordt de laatste jaren al snel naar de overheid gekeken i.h.b. naar bestuursorganen die onvoldoende toezicht zouden hebben uitgeoefend en daarom aansprakelijk zouden moeten worden geacht.</a:t>
            </a: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aar: dat de ramp heeft kunnen gebeuren zegt nog niets over de vraag of het bestuur is tekort geschoten. Vraag is: wat had van het bestuur kunnen worden verwacht? Gevaar dat beantwoording van deze vraag wordt gekleurd door ‘wijsheid achteraf’. </a:t>
            </a: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ardige  illustratie vormt een Amerikaans onderzoek waarbij aan personen die geschikt waren bevonden om als jurylid te fungeren werd gevraagd om te beoordelen of een bep. gedraging roekeloos was. Van personen die alleen de gedraging kenden en niet de gevolgen, vond 33% dat de gedraging roekeloos was. Van personen die de gedragen EN de desastreuze gevolgen kenden, vond 67% de gedraging roekeloos!</a:t>
            </a:r>
            <a:endParaRPr b="0" lang="en-US" sz="1400" spc="-1" strike="noStrike">
              <a:solidFill>
                <a:srgbClr val="a5002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5CC0-0F03-405D-A430-045D0E51E263}"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
        <p:nvSpPr>
          <p:cNvPr id="135" name="Tijdelijke aanduiding voor notities 4"/>
          <p:cNvSpPr/>
          <p:nvPr/>
        </p:nvSpPr>
        <p:spPr>
          <a:xfrm>
            <a:off x="679320" y="4716360"/>
            <a:ext cx="5438880" cy="44672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or:</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eventieve werking; bestuursorganen zouden dan niet te lichtvaardig van optreden afzien</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ivielrechtelijke aansprakelijkheid zou enig mechanisme zijn om bestuur te corrigeren (strafrechtelijke aansprakelijkheid werkt niet)</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Vertrouwen van de burger in de overheid bewerkstelligen; door het toekennen van toezichts- en handhavingsbevoegdheden mag de burger verwachten dat de overheid ook over zijn belangen waakt.</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Toezichts- en handhavingsbevoegdheden zijn aan de overheid toegedeeld om letsel en gevaar te voorkomen. Vgl. ook Oneryildiz</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50021"/>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gen:</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s de overheid aansprakelijk wordt gehouden bij wel handhavend optreden, zal zij daar eerder van afzien vanwege aansprakelijkheidsrisico’s.</a:t>
            </a:r>
            <a:endParaRPr b="0" lang="en-US" sz="1400" spc="-1" strike="noStrike">
              <a:solidFill>
                <a:srgbClr val="a50021"/>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Vrees voor aansprakelijkheid kan toezichthouder verlammen</a:t>
            </a:r>
            <a:endParaRPr b="0" lang="en-US" sz="1400" spc="-1" strike="noStrike">
              <a:solidFill>
                <a:srgbClr val="a5002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A6AE-5B7A-43EB-A7B4-24403C8BA34E}"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2600" cy="3722760"/>
          </a:xfrm>
          <a:prstGeom prst="rect">
            <a:avLst/>
          </a:prstGeom>
          <a:ln w="0">
            <a:noFill/>
          </a:ln>
        </p:spPr>
      </p:sp>
      <p:sp>
        <p:nvSpPr>
          <p:cNvPr id="14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D47A-DDD8-40FB-B937-D8C905105DCD}"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55800" y="800280"/>
            <a:ext cx="4962240" cy="3722400"/>
          </a:xfrm>
          <a:prstGeom prst="rect">
            <a:avLst/>
          </a:prstGeom>
          <a:ln w="0">
            <a:noFill/>
          </a:ln>
        </p:spPr>
      </p:sp>
      <p:sp>
        <p:nvSpPr>
          <p:cNvPr id="14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s berging op voorerf in Nieuwerkerk aan den Ijssel </a:t>
            </a:r>
            <a:r>
              <a:rPr b="0" lang="nl-NL" sz="1400" spc="-1" strike="noStrike">
                <a:solidFill>
                  <a:srgbClr val="000000"/>
                </a:solidFill>
                <a:latin typeface="Arial"/>
              </a:rPr>
              <a:t>(zie ABRvS 2 februari 2011, AB 2011,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gen vergelijkbare gevallen werd niet opgetreden; men gaf aan dat men voornemens was om te gaan optrede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stuur hanteerde ‘piep-systeem’ en had nog steeds niet opgetreden in vergelijkbare gevalle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 zitting bleek men nog steeds geen ‘verhaal’ te hebbe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67A1-7616-458D-AE16-9438396AEE36}" type="slidenum">
              <a:rPr b="0" lang="en-US" sz="1200" spc="-1" strike="noStrike">
                <a:solidFill>
                  <a:srgbClr val="000000"/>
                </a:solidFill>
                <a:latin typeface="Arial"/>
              </a:rPr>
              <a:t>&lt;number&gt;</a:t>
            </a:fld>
            <a:endParaRPr b="0" lang="en-US" sz="1200" spc="-1" strike="noStrike">
              <a:solidFill>
                <a:srgbClr val="a5002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us geluidoverlast café Friends (</a:t>
            </a:r>
            <a:r>
              <a:rPr b="0" lang="nl-NL" sz="1400" spc="-1" strike="noStrike">
                <a:solidFill>
                  <a:srgbClr val="000000"/>
                </a:solidFill>
                <a:latin typeface="Arial"/>
              </a:rPr>
              <a:t>ABRvS 5 oktober 2011, AB 2011, 307</a:t>
            </a:r>
            <a:r>
              <a:rPr b="0" lang="en-US" sz="1400" spc="-1" strike="noStrike">
                <a:solidFill>
                  <a:srgbClr val="000000"/>
                </a:solidFill>
                <a:latin typeface="Arial"/>
              </a:rPr>
              <a:t>: beleid &gt; 1) brief met mededeling dat overtreding moet worden opgeheven en 2) brief met voornemen tot bestuursrechtelijke maatregel; als sprake is van 2e overtreding binnen 1 jaar volgt gelijk optreden 3) sancti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RvS acht dit beleid redelijk. I.c. was ten onrechte niet doorgepakt na een 2e overtreding binnen een jaar; daarom werd afwijzing van handhavingsverzoek vernietigd (geen sprake van bijzondere omstandighede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03965-6F74-4FD0-8FFE-5BA2E115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367C-3677-460A-A50B-C91B860BC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1879C-066A-453E-9432-CE824B666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169A2-0736-4DDF-9F3F-37660F541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C3AA6-CEED-4C64-9640-FE7D48456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7"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45A5E-B642-4E4F-9123-4A5DE0A16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9"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FDEB1-E3A2-49A2-8459-65FD3F006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1"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E1543-AED3-4D65-B761-639250715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0A32A-9727-402E-9FA9-B31B7992A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8EACE-BE4A-4638-9EF0-44CDF742B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6"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017F-4F49-4F2A-901C-008190BF9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C66C1-FEEF-4AB3-AE0A-C7460D191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54A39-9595-4F24-A26A-1EB72AFCA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4"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CA455-D2C8-4581-A39E-E4421874B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8"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61E94-69E2-488F-B630-A8D88B226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1"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CBF71-EE0C-430A-B037-56EA219FE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6"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EB3BC-4795-49D3-8DF0-A418A5D2B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14C0-5762-4F98-B6E3-F1C1A454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FF27-4275-414E-A70A-4B4E8D96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43342-2C33-491C-AD7E-C0E847DF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230E2-0F67-4DD2-8FB3-D790324F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ECC8-3503-4271-A91E-DF73FD26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D7C26-BC07-4655-B434-772AC266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5F1B-1005-4067-BBA5-AFDC5534E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1CC-5259-48F4-BB59-7826B6F09F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42"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ED93-F3F1-4FCB-BFFF-884F10661D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95876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stuurlijke handhaving en aansprakelijkheid</a:t>
            </a:r>
            <a:endParaRPr b="0" lang="en-US" sz="3600" spc="-1" strike="noStrike">
              <a:solidFill>
                <a:srgbClr val="800000"/>
              </a:solidFill>
              <a:latin typeface="Arial"/>
            </a:endParaRPr>
          </a:p>
        </p:txBody>
      </p:sp>
      <p:sp>
        <p:nvSpPr>
          <p:cNvPr id="90" name="PlaceHolder 2"/>
          <p:cNvSpPr>
            <a:spLocks noGrp="1"/>
          </p:cNvSpPr>
          <p:nvPr>
            <p:ph type="subTitle"/>
          </p:nvPr>
        </p:nvSpPr>
        <p:spPr>
          <a:xfrm>
            <a:off x="2443320" y="3886200"/>
            <a:ext cx="62323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of.mr. G.T.J.M. Jurge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8 april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Onrechtmatigheid</a:t>
            </a:r>
            <a:endParaRPr b="0" lang="en-US" sz="3600" spc="-1" strike="noStrike">
              <a:solidFill>
                <a:srgbClr val="800000"/>
              </a:solidFill>
              <a:latin typeface="Arial"/>
            </a:endParaRPr>
          </a:p>
        </p:txBody>
      </p:sp>
      <p:sp>
        <p:nvSpPr>
          <p:cNvPr id="117" name=""/>
          <p:cNvSpPr txBox="1"/>
          <p:nvPr/>
        </p:nvSpPr>
        <p:spPr>
          <a:xfrm>
            <a:off x="2050560" y="2041560"/>
            <a:ext cx="7093080" cy="408456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 van de formele rechtskracht: niet vernietigd besluit = rechtmatig Is er aanleiding tot nuancering?</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urgerlijke rechter moet soms een zelfstandig oordeel geven over onrechtmatigheid van niet-optreden: m.i. slechts als het niet opportuun is om een handhavingsbesluit  uit te lokken (bijv. Enschede, CMI-br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858600"/>
            <a:ext cx="914400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Casuïstische benadering t.a.v onrechtmatigheid</a:t>
            </a:r>
            <a:endParaRPr b="0" lang="en-US" sz="3600" spc="-1" strike="noStrike">
              <a:solidFill>
                <a:srgbClr val="800000"/>
              </a:solidFill>
              <a:latin typeface="Arial"/>
            </a:endParaRPr>
          </a:p>
        </p:txBody>
      </p:sp>
      <p:sp>
        <p:nvSpPr>
          <p:cNvPr id="119" name=""/>
          <p:cNvSpPr txBox="1"/>
          <p:nvPr/>
        </p:nvSpPr>
        <p:spPr>
          <a:xfrm>
            <a:off x="182160" y="1617480"/>
            <a:ext cx="8961480" cy="450828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MI-zaak </a:t>
            </a:r>
            <a:r>
              <a:rPr b="0" lang="nl-NL" sz="2400" spc="-1" strike="noStrike">
                <a:solidFill>
                  <a:srgbClr val="000000"/>
                </a:solidFill>
                <a:latin typeface="Arial"/>
              </a:rPr>
              <a:t>(Hof Den Haag 22 maart 2011</a:t>
            </a:r>
            <a:r>
              <a:rPr b="0" lang="nl-NL" sz="3200" spc="-1" strike="noStrike">
                <a:solidFill>
                  <a:srgbClr val="000000"/>
                </a:solidFill>
                <a:latin typeface="Arial"/>
              </a:rPr>
              <a:t>): weliswaar beleidsvrijheid, maar acuut en ernstig gevaar &amp; aanmerkelijke kans op ernstige schade maakten dat overheidsoptreden i.c. niet voortvarend en dwingend genoeg wa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nschede-zaak </a:t>
            </a:r>
            <a:r>
              <a:rPr b="0" lang="nl-NL" sz="2400" spc="-1" strike="noStrike">
                <a:solidFill>
                  <a:srgbClr val="000000"/>
                </a:solidFill>
                <a:latin typeface="Arial"/>
              </a:rPr>
              <a:t>(Hof Den Haag 24 augustus 2010)</a:t>
            </a:r>
            <a:r>
              <a:rPr b="0" lang="nl-NL" sz="3200" spc="-1" strike="noStrike">
                <a:solidFill>
                  <a:srgbClr val="000000"/>
                </a:solidFill>
                <a:latin typeface="Arial"/>
              </a:rPr>
              <a:t>: geen handhavingsverzoek of klachten; gesprekken over bedrijfsverplaatsing; relatie overtredingen – gevolgen: bestuur hoefde risico van massa-explosie niet te kennen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560" y="885960"/>
            <a:ext cx="664236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Relativiteit</a:t>
            </a:r>
            <a:endParaRPr b="0" lang="en-US" sz="3600" spc="-1" strike="noStrike">
              <a:solidFill>
                <a:srgbClr val="800000"/>
              </a:solidFill>
              <a:latin typeface="Arial"/>
            </a:endParaRPr>
          </a:p>
        </p:txBody>
      </p:sp>
      <p:sp>
        <p:nvSpPr>
          <p:cNvPr id="121" name=""/>
          <p:cNvSpPr txBox="1"/>
          <p:nvPr/>
        </p:nvSpPr>
        <p:spPr>
          <a:xfrm>
            <a:off x="1365120" y="1603440"/>
            <a:ext cx="7778880" cy="5254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eoogde de norm die tot aannemen van onrechtmatigheid leidt de gelaedeerde te beschermen tegen de geleden schade?</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Onderschei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e handhaven norm (bijv. Wabo)</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norm die het bestuur noopt tot optreden (bijv. art. 3:2 en 3:4 Awb)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Rechters lijken die aspecten met elkaar te vereenzelvi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Causaliteit</a:t>
            </a:r>
            <a:endParaRPr b="0" lang="en-US" sz="3600" spc="-1" strike="noStrike">
              <a:solidFill>
                <a:srgbClr val="800000"/>
              </a:solidFill>
              <a:latin typeface="Arial"/>
            </a:endParaRPr>
          </a:p>
        </p:txBody>
      </p:sp>
      <p:sp>
        <p:nvSpPr>
          <p:cNvPr id="123" name=""/>
          <p:cNvSpPr txBox="1"/>
          <p:nvPr/>
        </p:nvSpPr>
        <p:spPr>
          <a:xfrm>
            <a:off x="777600" y="2041560"/>
            <a:ext cx="8366040" cy="408456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s de schade het gevolg van het niet optreden door het bestuur?</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Uitgangspunt: niet-optreden is mede-oorzaak &gt; hoofdelijke aansprakelijkheid</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argumenten contra:</a:t>
            </a:r>
            <a:endParaRPr b="0" lang="en-US" sz="32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ndhavend optreden zou schade niet verhinderd hebben </a:t>
            </a:r>
            <a:r>
              <a:rPr b="0" lang="nl-NL" sz="2400" spc="-1" strike="noStrike">
                <a:solidFill>
                  <a:srgbClr val="000000"/>
                </a:solidFill>
                <a:latin typeface="Arial"/>
              </a:rPr>
              <a:t>(St.Willebrord, HR 16 juni 2000)</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ecundair karakter van de fout aan overheidszij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www.geldverdienen24.nl/images/stories/berg-geld.jpg"/>
          <p:cNvPicPr/>
          <p:nvPr/>
        </p:nvPicPr>
        <p:blipFill>
          <a:blip r:embed="rId1"/>
          <a:stretch/>
        </p:blipFill>
        <p:spPr>
          <a:xfrm>
            <a:off x="2708280" y="2738520"/>
            <a:ext cx="4286160" cy="2857320"/>
          </a:xfrm>
          <a:prstGeom prst="rect">
            <a:avLst/>
          </a:prstGeom>
          <a:ln w="0">
            <a:noFill/>
          </a:ln>
        </p:spPr>
      </p:pic>
      <p:sp>
        <p:nvSpPr>
          <p:cNvPr id="125" name="Tekstvak 3"/>
          <p:cNvSpPr/>
          <p:nvPr/>
        </p:nvSpPr>
        <p:spPr>
          <a:xfrm>
            <a:off x="1460520" y="1582560"/>
            <a:ext cx="7478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Uitdijende overheidsaansprakelijkheid?</a:t>
            </a:r>
            <a:endParaRPr b="0" lang="en-US" sz="32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gradior.files.wordpress.com/2011/02/route2.jpg?w=150&amp;h=111"/>
          <p:cNvPicPr/>
          <p:nvPr/>
        </p:nvPicPr>
        <p:blipFill>
          <a:blip r:embed="rId1"/>
          <a:stretch/>
        </p:blipFill>
        <p:spPr>
          <a:xfrm>
            <a:off x="2698920" y="1460520"/>
            <a:ext cx="4794120" cy="31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upload.wikimedia.org/wikipedia/commons/thumb/f/f1/Ramp_enschede.jpg/264px-Ramp_enschede.jpg"/>
          <p:cNvPicPr/>
          <p:nvPr/>
        </p:nvPicPr>
        <p:blipFill>
          <a:blip r:embed="rId1"/>
          <a:stretch/>
        </p:blipFill>
        <p:spPr>
          <a:xfrm>
            <a:off x="165240" y="2427120"/>
            <a:ext cx="2952720" cy="2001960"/>
          </a:xfrm>
          <a:prstGeom prst="rect">
            <a:avLst/>
          </a:prstGeom>
          <a:ln w="0">
            <a:noFill/>
          </a:ln>
        </p:spPr>
      </p:pic>
      <p:pic>
        <p:nvPicPr>
          <p:cNvPr id="92" name="Picture 4" descr="http://t1.gstatic.com/images?q=tbn:ANd9GcQ46j4CIWzuGIfENi7LV3mWFeIZXBgCoLW-ZgLGeJq9cNRVsv_uwg"/>
          <p:cNvPicPr/>
          <p:nvPr/>
        </p:nvPicPr>
        <p:blipFill>
          <a:blip r:embed="rId2"/>
          <a:stretch/>
        </p:blipFill>
        <p:spPr>
          <a:xfrm>
            <a:off x="3348000" y="2193840"/>
            <a:ext cx="2324160" cy="1962360"/>
          </a:xfrm>
          <a:prstGeom prst="rect">
            <a:avLst/>
          </a:prstGeom>
          <a:ln w="0">
            <a:noFill/>
          </a:ln>
        </p:spPr>
      </p:pic>
      <p:pic>
        <p:nvPicPr>
          <p:cNvPr id="93" name="Picture 6" descr="http://t3.gstatic.com/images?q=tbn:ANd9GcTT7l666ZFRzOlcyPY2JEW4ZxuCu-66wVLxG6xGKa-_Nr4yLA2law"/>
          <p:cNvPicPr/>
          <p:nvPr/>
        </p:nvPicPr>
        <p:blipFill>
          <a:blip r:embed="rId3"/>
          <a:stretch/>
        </p:blipFill>
        <p:spPr>
          <a:xfrm>
            <a:off x="5981760" y="2031840"/>
            <a:ext cx="2467080" cy="1847880"/>
          </a:xfrm>
          <a:prstGeom prst="rect">
            <a:avLst/>
          </a:prstGeom>
          <a:ln w="0">
            <a:noFill/>
          </a:ln>
        </p:spPr>
      </p:pic>
      <p:pic>
        <p:nvPicPr>
          <p:cNvPr id="94" name="Picture 8" descr="http://www.joostdevree.nl/bouwkunde2/jpgb/bouwfout_2_balkons_maastricht_limburgs_dagblad.jpg"/>
          <p:cNvPicPr/>
          <p:nvPr/>
        </p:nvPicPr>
        <p:blipFill>
          <a:blip r:embed="rId4"/>
          <a:stretch/>
        </p:blipFill>
        <p:spPr>
          <a:xfrm>
            <a:off x="4413240" y="3733920"/>
            <a:ext cx="3708360" cy="2482560"/>
          </a:xfrm>
          <a:prstGeom prst="rect">
            <a:avLst/>
          </a:prstGeom>
          <a:ln w="0">
            <a:noFill/>
          </a:ln>
        </p:spPr>
      </p:pic>
      <p:sp>
        <p:nvSpPr>
          <p:cNvPr id="95" name="Tekstvak 5"/>
          <p:cNvSpPr/>
          <p:nvPr/>
        </p:nvSpPr>
        <p:spPr>
          <a:xfrm>
            <a:off x="1195560" y="1279440"/>
            <a:ext cx="7667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t>
            </a:r>
            <a:r>
              <a:rPr b="0" lang="nl-NL" sz="3200" spc="-1" strike="noStrike">
                <a:solidFill>
                  <a:srgbClr val="a50021"/>
                </a:solidFill>
                <a:latin typeface="Arial"/>
              </a:rPr>
              <a:t>Gij had beter toezicht moeten houden!”</a:t>
            </a:r>
            <a:endParaRPr b="0" lang="en-US" sz="3200" spc="-1" strike="noStrike">
              <a:solidFill>
                <a:srgbClr val="a50021"/>
              </a:solidFill>
              <a:latin typeface="Arial"/>
            </a:endParaRPr>
          </a:p>
        </p:txBody>
      </p:sp>
      <p:sp>
        <p:nvSpPr>
          <p:cNvPr id="96" name="AutoShape 10"/>
          <p:cNvSpPr/>
          <p:nvPr/>
        </p:nvSpPr>
        <p:spPr>
          <a:xfrm>
            <a:off x="255600" y="-447840"/>
            <a:ext cx="1285920" cy="8575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97" name="AutoShape 12"/>
          <p:cNvSpPr/>
          <p:nvPr/>
        </p:nvSpPr>
        <p:spPr>
          <a:xfrm>
            <a:off x="255600" y="-447840"/>
            <a:ext cx="1285920" cy="8575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pic>
        <p:nvPicPr>
          <p:cNvPr id="98" name="Picture 14" descr="http://vorige.nrc.nl/multimedia/dynamic/00084/schipholbrand_84550a.jpg"/>
          <p:cNvPicPr/>
          <p:nvPr/>
        </p:nvPicPr>
        <p:blipFill>
          <a:blip r:embed="rId5"/>
          <a:stretch/>
        </p:blipFill>
        <p:spPr>
          <a:xfrm>
            <a:off x="1535040" y="4432320"/>
            <a:ext cx="3214800" cy="21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Discussie</a:t>
            </a:r>
            <a:endParaRPr b="0" lang="en-US" sz="3600" spc="-1" strike="noStrike">
              <a:solidFill>
                <a:srgbClr val="800000"/>
              </a:solidFill>
              <a:latin typeface="Arial"/>
            </a:endParaRPr>
          </a:p>
        </p:txBody>
      </p:sp>
      <p:pic>
        <p:nvPicPr>
          <p:cNvPr id="100" name="Picture 2" descr="C:\Users\Gerdy\Pictures\images[10].jpg"/>
          <p:cNvPicPr/>
          <p:nvPr/>
        </p:nvPicPr>
        <p:blipFill>
          <a:blip r:embed="rId1"/>
          <a:stretch/>
        </p:blipFill>
        <p:spPr>
          <a:xfrm>
            <a:off x="3862440" y="3089160"/>
            <a:ext cx="2514600" cy="1819440"/>
          </a:xfrm>
          <a:prstGeom prst="rect">
            <a:avLst/>
          </a:prstGeom>
          <a:ln w="0">
            <a:noFill/>
          </a:ln>
        </p:spPr>
      </p:pic>
      <p:sp>
        <p:nvSpPr>
          <p:cNvPr id="101" name="Tekstvak 4"/>
          <p:cNvSpPr/>
          <p:nvPr/>
        </p:nvSpPr>
        <p:spPr>
          <a:xfrm>
            <a:off x="2138400" y="2363760"/>
            <a:ext cx="67104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rgumenten </a:t>
            </a:r>
            <a:r>
              <a:rPr b="1" i="1" lang="nl-NL" sz="3200" spc="-1" strike="noStrike">
                <a:solidFill>
                  <a:srgbClr val="a50021"/>
                </a:solidFill>
                <a:latin typeface="Arial"/>
              </a:rPr>
              <a:t>voor</a:t>
            </a:r>
            <a:r>
              <a:rPr b="0" lang="nl-NL" sz="3200" spc="-1" strike="noStrike">
                <a:solidFill>
                  <a:srgbClr val="a50021"/>
                </a:solidFill>
                <a:latin typeface="Arial"/>
              </a:rPr>
              <a:t> aansprakelijkheid</a:t>
            </a:r>
            <a:endParaRPr b="0" lang="en-US" sz="3200" spc="-1" strike="noStrike">
              <a:solidFill>
                <a:srgbClr val="a50021"/>
              </a:solidFill>
              <a:latin typeface="Arial"/>
            </a:endParaRPr>
          </a:p>
        </p:txBody>
      </p:sp>
      <p:sp>
        <p:nvSpPr>
          <p:cNvPr id="102" name="Tekstvak 5"/>
          <p:cNvSpPr/>
          <p:nvPr/>
        </p:nvSpPr>
        <p:spPr>
          <a:xfrm>
            <a:off x="2192400" y="5315040"/>
            <a:ext cx="69516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50021"/>
                </a:solidFill>
                <a:latin typeface="Arial"/>
              </a:rPr>
              <a:t>Argumenten </a:t>
            </a:r>
            <a:r>
              <a:rPr b="1" i="1" lang="nl-NL" sz="3200" spc="-1" strike="noStrike">
                <a:solidFill>
                  <a:srgbClr val="a50021"/>
                </a:solidFill>
                <a:latin typeface="Arial"/>
              </a:rPr>
              <a:t>tegen</a:t>
            </a:r>
            <a:r>
              <a:rPr b="0" lang="nl-NL" sz="3200" spc="-1" strike="noStrike">
                <a:solidFill>
                  <a:srgbClr val="a50021"/>
                </a:solidFill>
                <a:latin typeface="Arial"/>
              </a:rPr>
              <a:t> aansprakelijkheid</a:t>
            </a:r>
            <a:endParaRPr b="0" lang="en-US" sz="32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01360" y="1293840"/>
            <a:ext cx="7442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Welke rechter gaat over de aansprakelijkheid van de overheid bij gebrekkig handhaving?</a:t>
            </a:r>
            <a:endParaRPr b="0" lang="en-US" sz="3600" spc="-1" strike="noStrike">
              <a:solidFill>
                <a:srgbClr val="800000"/>
              </a:solidFill>
              <a:latin typeface="Arial"/>
            </a:endParaRPr>
          </a:p>
        </p:txBody>
      </p:sp>
      <p:pic>
        <p:nvPicPr>
          <p:cNvPr id="104" name="Picture 3" descr="C:\Users\Gerdy\Pictures\450px-Hoge_raad_gebouw_lange_voorhout[1].jpg"/>
          <p:cNvPicPr/>
          <p:nvPr/>
        </p:nvPicPr>
        <p:blipFill>
          <a:blip r:embed="rId1"/>
          <a:stretch/>
        </p:blipFill>
        <p:spPr>
          <a:xfrm>
            <a:off x="6392880" y="2954160"/>
            <a:ext cx="2131920" cy="2843280"/>
          </a:xfrm>
          <a:prstGeom prst="rect">
            <a:avLst/>
          </a:prstGeom>
          <a:ln w="0">
            <a:noFill/>
          </a:ln>
        </p:spPr>
      </p:pic>
      <p:pic>
        <p:nvPicPr>
          <p:cNvPr id="105" name="Picture 4" descr="C:\Users\Gerdy\Pictures\Den_Haag_Raad_van_State[1].jpg"/>
          <p:cNvPicPr/>
          <p:nvPr/>
        </p:nvPicPr>
        <p:blipFill>
          <a:blip r:embed="rId2"/>
          <a:stretch/>
        </p:blipFill>
        <p:spPr>
          <a:xfrm>
            <a:off x="2290680" y="3487680"/>
            <a:ext cx="3235320" cy="16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stuurlijke handhaving</a:t>
            </a:r>
            <a:endParaRPr b="0" lang="en-US" sz="3600" spc="-1" strike="noStrike">
              <a:solidFill>
                <a:srgbClr val="800000"/>
              </a:solidFill>
              <a:latin typeface="Arial"/>
            </a:endParaRPr>
          </a:p>
        </p:txBody>
      </p:sp>
      <p:sp>
        <p:nvSpPr>
          <p:cNvPr id="107" name=""/>
          <p:cNvSpPr txBox="1"/>
          <p:nvPr/>
        </p:nvSpPr>
        <p:spPr>
          <a:xfrm>
            <a:off x="1871640" y="2207880"/>
            <a:ext cx="710424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uitoefenen van toezi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opleggen van sancties, bij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st onder bestuursdwa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st onder dwangs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rekking vergu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urlijke bo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195200"/>
            <a:ext cx="6696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Beginselplicht tot handhaving</a:t>
            </a:r>
            <a:endParaRPr b="0" lang="en-US" sz="3600" spc="-1" strike="noStrike">
              <a:solidFill>
                <a:srgbClr val="800000"/>
              </a:solidFill>
              <a:latin typeface="Arial"/>
            </a:endParaRPr>
          </a:p>
        </p:txBody>
      </p:sp>
      <p:sp>
        <p:nvSpPr>
          <p:cNvPr id="109" name="PlaceHolder 2"/>
          <p:cNvSpPr>
            <a:spLocks noGrp="1"/>
          </p:cNvSpPr>
          <p:nvPr>
            <p:ph type="subTitle"/>
          </p:nvPr>
        </p:nvSpPr>
        <p:spPr>
          <a:xfrm>
            <a:off x="2442960" y="2222640"/>
            <a:ext cx="6700680" cy="41925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gangspunt: bestuur dient sanctie op te leggen bij overtreding, tenzij sprake is v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creet zicht op legalisatie</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B: dit is iets anders dan concreet zicht op              beëindiging van de overtreding)</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onevenredigheid bij handhav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strijd met het gelijkheidsbegins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Reikwijdte beginselplicht?</a:t>
            </a:r>
            <a:endParaRPr b="0" lang="en-US" sz="3600" spc="-1" strike="noStrike">
              <a:solidFill>
                <a:srgbClr val="800000"/>
              </a:solidFill>
              <a:latin typeface="Arial"/>
            </a:endParaRPr>
          </a:p>
        </p:txBody>
      </p:sp>
      <p:sp>
        <p:nvSpPr>
          <p:cNvPr id="111" name=""/>
          <p:cNvSpPr txBox="1"/>
          <p:nvPr/>
        </p:nvSpPr>
        <p:spPr>
          <a:xfrm>
            <a:off x="2050920" y="2390760"/>
            <a:ext cx="6624720" cy="3735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toezi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bestraffende sanc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ok voor tenuitvoerlegging van sanc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Precisering beginselplicht</a:t>
            </a:r>
            <a:endParaRPr b="0" lang="en-US" sz="3600" spc="-1" strike="noStrike">
              <a:solidFill>
                <a:srgbClr val="800000"/>
              </a:solidFill>
              <a:latin typeface="Arial"/>
            </a:endParaRPr>
          </a:p>
        </p:txBody>
      </p:sp>
      <p:sp>
        <p:nvSpPr>
          <p:cNvPr id="113"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dien bestuur een redelijk handhavingsbeleid voert met bijv. een stappenplan, dan dient het zich aan dit beleid te houd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s: eerst waarschuwen conform het beleid, maar dan wel doorpak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0560" y="1197000"/>
            <a:ext cx="685332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800000"/>
                </a:solidFill>
                <a:latin typeface="Arial"/>
              </a:rPr>
              <a:t>Vereisten voor aansprakelijkheid</a:t>
            </a:r>
            <a:endParaRPr b="0" lang="en-US" sz="3600" spc="-1" strike="noStrike">
              <a:solidFill>
                <a:srgbClr val="800000"/>
              </a:solidFill>
              <a:latin typeface="Arial"/>
            </a:endParaRPr>
          </a:p>
        </p:txBody>
      </p:sp>
      <p:sp>
        <p:nvSpPr>
          <p:cNvPr id="115"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rechtmatigh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v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usaal ver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rek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9:32:08Z</dcterms:created>
  <dc:creator>Esther Christenhuis</dc:creator>
  <dc:description/>
  <dc:language>en-US</dc:language>
  <cp:lastModifiedBy>Mr. P.L.J. Verhoef</cp:lastModifiedBy>
  <dcterms:modified xsi:type="dcterms:W3CDTF">2012-04-18T08:17:12Z</dcterms:modified>
  <cp:revision>99</cp:revision>
  <dc:subject/>
  <dc:title>Slide 1</dc:title>
</cp:coreProperties>
</file>