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705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785B-1635-4D7C-9121-9F931F5FB45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1379-A4EB-4823-8AFA-A2FED155102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F229-7E18-4F83-8933-D6C8C054652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DF90-AA51-41D6-B9FB-D064ADB963E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E1B6-4DA9-4EF9-9294-C0B2B301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DB02-C5BB-4423-85D5-477CB21C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F04F-F701-4FA7-909B-82A9C810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F16E-B183-4A11-BAE8-1CE41349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F868-2673-4826-B704-115C2C9C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9EF3-B129-493C-9C71-C3A13270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2FEB-4CA1-4ACF-BFF6-56899630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740A-8DF7-4766-8134-901B53FD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0101-1A4A-4AF6-8851-5D5D616D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8E06-F583-466C-86F1-CDC2C2F5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8B02-1171-4CD6-9138-06634EBD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DD82-B5EE-43F2-9620-7FE3DF2D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705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c70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19C6-AA46-4303-97AC-43910848D6E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4c7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banner"/>
          <p:cNvPicPr/>
          <p:nvPr/>
        </p:nvPicPr>
        <p:blipFill>
          <a:blip r:embed="rId2"/>
          <a:stretch/>
        </p:blipFill>
        <p:spPr>
          <a:xfrm>
            <a:off x="0" y="1341360"/>
            <a:ext cx="463680" cy="388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erghauserpont.nl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705b"/>
                </a:solidFill>
                <a:latin typeface="Arial"/>
              </a:rPr>
              <a:t>Contactgroep Algemeen Bestuursrecht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Bijeenkomst 7 november 2012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Jurisprudentie 4 – van rechtswege Wabo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BW5007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(bij regulier altijd van rechtswege na 8 weken, ook bij toepassing artikel 4 Bijlage II Bor </a:t>
            </a:r>
            <a:r>
              <a:rPr b="0" lang="en-US" sz="2800" spc="-1" strike="noStrike">
                <a:solidFill>
                  <a:srgbClr val="4c705b"/>
                </a:solidFill>
                <a:latin typeface="Wingdings"/>
                <a:ea typeface="Wingdings"/>
              </a:rPr>
              <a:t>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BU1267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(nimmer van rechtswege na 8 weken bij regulier als bouwplan onder UOV valt </a:t>
            </a:r>
            <a:r>
              <a:rPr b="0" lang="en-US" sz="2800" spc="-1" strike="noStrike">
                <a:solidFill>
                  <a:srgbClr val="4c705b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BA3787, BK3630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(reëel besluit treedt in plaats van fictief besluit als daartegen geen rechtsmiddelen zijn aangewend </a:t>
            </a:r>
            <a:r>
              <a:rPr b="0" lang="en-US" sz="2800" spc="-1" strike="noStrike">
                <a:solidFill>
                  <a:srgbClr val="4c705b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705b"/>
                </a:solidFill>
                <a:latin typeface="Arial"/>
              </a:rPr>
              <a:t>Waar gehakt wordt, vallen spaanders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..over nadeelcompensatie en schadevergoeding..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705b"/>
                </a:solidFill>
                <a:latin typeface="Arial"/>
              </a:rPr>
              <a:t>Hoe ver bent u met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De voorbereiding van de invoering van de wet Nadeelcompensatie en schadevergoeding bij onrechtmatige besluiten?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Wie is de “eigenaar” van deze wet ?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Heffen we een recht ?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Schakelen we een adviseur in ?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Wat doen we met onze verzekeraar ?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Wake up - rechtspraak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Guldemond: gewone rechter als restrechter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Van Vlodrop: buitenwettelijk zuiver schadebesluit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Raatgever: burgerlijke rechter tóch bevoegd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Coffeeshop Venlo: formele rechtskracht staat verzoek om nadeelcompensatie o.g.v. égalité niet in de weg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Asha: burgerlijke rechter heeft geen taak op gebied nadeelcompensatie, gezien ABRS Coffeeshop Venlo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4c705b"/>
                </a:solidFill>
                <a:latin typeface="Arial"/>
              </a:rPr>
              <a:t>Vraagstuk “verdeling van rechtsmacht” (magische lijn) loopt dwars door rechtmatig/onrechtmatig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c705b"/>
                </a:solidFill>
                <a:latin typeface="Arial"/>
              </a:rPr>
              <a:t>De praktijk - algemeen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Burger ondervindt nadeel c.q. lijdt schade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Oorzaak: rechtmatige of onrechtmatige overheidsdaad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Verhaal: zeer divers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Procedureel mijnenveld: enkel woord “aansprakelijk” sluit weg naar zuiver schadebesluit uit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c705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c705b"/>
                </a:solidFill>
                <a:latin typeface="Arial"/>
              </a:rPr>
              <a:t>ABRS 07 juli 2006, LJN AX 7065</a:t>
            </a:r>
            <a:endParaRPr b="0" lang="en-US" sz="20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Eenvoudig briefje, vormvrij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c705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c705b"/>
                </a:solidFill>
                <a:latin typeface="Arial"/>
              </a:rPr>
              <a:t>Uiteindelijk civiele rechter</a:t>
            </a:r>
            <a:endParaRPr b="0" lang="en-US" sz="20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Door de wet voorgeschreven aanvraagprocedure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c705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c705b"/>
                </a:solidFill>
                <a:latin typeface="Arial"/>
              </a:rPr>
              <a:t>Uiteindelijk: bestuursrechter</a:t>
            </a:r>
            <a:endParaRPr b="0" lang="en-US" sz="20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c705b"/>
                </a:solidFill>
                <a:latin typeface="Arial"/>
              </a:rPr>
              <a:t>Typische begrippen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Égalité devant les charges publiques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Ontwikkeld als ongeschreven recht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Gelijkheid voor openbare lasten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Gaat uit van “referentiegroep”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Evenredigheid 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Ontstaan als algemeen beginsel in de AROB-rechtspraak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Gecodificeerd in 1994: artikel 3:4 lid 2 Awb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Gaat uit van “deze benadeelde”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4c705b"/>
                </a:solidFill>
                <a:latin typeface="Arial"/>
              </a:rPr>
              <a:t>(ON)RECHTMATIGE BESLUITEN</a:t>
            </a:r>
            <a:endParaRPr b="0" lang="en-US" sz="40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c705b"/>
                </a:solidFill>
                <a:latin typeface="Arial"/>
              </a:rPr>
              <a:t>Rechtsmachtverdeling bestuursrechter – civiele rechter van 8 november 2006 tot 1 januari 2013 :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1187280" y="476280"/>
            <a:ext cx="6193080" cy="10810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Schadeveroorzakende han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1258920" y="2349360"/>
            <a:ext cx="1728720" cy="5749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rechtmat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5580000" y="2349360"/>
            <a:ext cx="1728720" cy="5749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onrechtmat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539640" y="3789360"/>
            <a:ext cx="1511280" cy="4316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appel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2268360" y="3645000"/>
            <a:ext cx="1727280" cy="576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niet-appel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11280" y="4941720"/>
            <a:ext cx="1439640" cy="5032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ég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611280" y="5950080"/>
            <a:ext cx="1728720" cy="5745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Univers"/>
                <a:ea typeface="Calibri"/>
              </a:rPr>
              <a:t>bestuursrech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268360" y="4797360"/>
            <a:ext cx="172728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6:162 B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572000" y="3645000"/>
            <a:ext cx="1728720" cy="576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appel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6588000" y="3645000"/>
            <a:ext cx="1729080" cy="576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niet-appel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6588000" y="4797360"/>
            <a:ext cx="172908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6:162 B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4572000" y="4797360"/>
            <a:ext cx="172872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zu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Univers"/>
                <a:ea typeface="Arial"/>
              </a:rPr>
              <a:t>schadebesl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3492360" y="5950080"/>
            <a:ext cx="1727280" cy="5745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Univers"/>
                <a:ea typeface="Calibri"/>
              </a:rPr>
              <a:t>bestuursrech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5651640" y="5950080"/>
            <a:ext cx="1728720" cy="5745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Univers"/>
                <a:ea typeface="Calibri"/>
              </a:rPr>
              <a:t>gewone rech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15"/>
          <p:cNvCxnSpPr>
            <a:endCxn id="82" idx="0"/>
          </p:cNvCxnSpPr>
          <p:nvPr/>
        </p:nvCxnSpPr>
        <p:spPr>
          <a:xfrm>
            <a:off x="2123640" y="1557360"/>
            <a:ext cx="1080" cy="79272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6" name="Straight Arrow Connector 17"/>
          <p:cNvCxnSpPr/>
          <p:nvPr/>
        </p:nvCxnSpPr>
        <p:spPr>
          <a:xfrm>
            <a:off x="6443280" y="1557360"/>
            <a:ext cx="1080" cy="79272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7" name="Straight Arrow Connector 18"/>
          <p:cNvCxnSpPr/>
          <p:nvPr/>
        </p:nvCxnSpPr>
        <p:spPr>
          <a:xfrm>
            <a:off x="1618920" y="2924280"/>
            <a:ext cx="1080" cy="72144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8" name="Straight Arrow Connector 20"/>
          <p:cNvCxnSpPr/>
          <p:nvPr/>
        </p:nvCxnSpPr>
        <p:spPr>
          <a:xfrm>
            <a:off x="2700000" y="2924280"/>
            <a:ext cx="1080" cy="72144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9" name="Straight Arrow Connector 21"/>
          <p:cNvCxnSpPr>
            <a:endCxn id="86" idx="0"/>
          </p:cNvCxnSpPr>
          <p:nvPr/>
        </p:nvCxnSpPr>
        <p:spPr>
          <a:xfrm flipH="1">
            <a:off x="1331640" y="4292280"/>
            <a:ext cx="144720" cy="64980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0" name="Straight Arrow Connector 24"/>
          <p:cNvCxnSpPr/>
          <p:nvPr/>
        </p:nvCxnSpPr>
        <p:spPr>
          <a:xfrm>
            <a:off x="3131640" y="4220640"/>
            <a:ext cx="1080" cy="577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1" name="Straight Arrow Connector 25"/>
          <p:cNvCxnSpPr>
            <a:endCxn id="87" idx="0"/>
          </p:cNvCxnSpPr>
          <p:nvPr/>
        </p:nvCxnSpPr>
        <p:spPr>
          <a:xfrm>
            <a:off x="1476000" y="5516640"/>
            <a:ext cx="1080" cy="43416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2" name="Straight Arrow Connector 27"/>
          <p:cNvCxnSpPr/>
          <p:nvPr/>
        </p:nvCxnSpPr>
        <p:spPr>
          <a:xfrm>
            <a:off x="5940000" y="2924280"/>
            <a:ext cx="1080" cy="72144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3" name="Straight Arrow Connector 28"/>
          <p:cNvCxnSpPr/>
          <p:nvPr/>
        </p:nvCxnSpPr>
        <p:spPr>
          <a:xfrm>
            <a:off x="7019640" y="2924280"/>
            <a:ext cx="1080" cy="72144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4" name="Straight Arrow Connector 29"/>
          <p:cNvCxnSpPr/>
          <p:nvPr/>
        </p:nvCxnSpPr>
        <p:spPr>
          <a:xfrm>
            <a:off x="5435280" y="4220640"/>
            <a:ext cx="1080" cy="577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5" name="Straight Arrow Connector 30"/>
          <p:cNvCxnSpPr/>
          <p:nvPr/>
        </p:nvCxnSpPr>
        <p:spPr>
          <a:xfrm>
            <a:off x="7451280" y="4220640"/>
            <a:ext cx="1080" cy="577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6" name="Straight Arrow Connector 31"/>
          <p:cNvCxnSpPr/>
          <p:nvPr/>
        </p:nvCxnSpPr>
        <p:spPr>
          <a:xfrm>
            <a:off x="4787640" y="5373360"/>
            <a:ext cx="1080" cy="577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7" name="Straight Arrow Connector 32"/>
          <p:cNvCxnSpPr/>
          <p:nvPr/>
        </p:nvCxnSpPr>
        <p:spPr>
          <a:xfrm>
            <a:off x="6084360" y="5373360"/>
            <a:ext cx="1080" cy="577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c705b"/>
                </a:solidFill>
                <a:latin typeface="Arial"/>
              </a:rPr>
              <a:t>In aantocht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Algemene wettelijke regeling nadeelcompensatie én onrechtmatige besluiten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Plaats: titels 4.5 en 8.4 Awb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Status: wetsvoorstel (TK aanvaard 27 maart 2012)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EK doet niet moeilijk, maar toch: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Inwerkingtreding:  …?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c705b"/>
                </a:solidFill>
                <a:latin typeface="Arial"/>
              </a:rPr>
              <a:t>Nadeelcompensatie (ontwerp-titel 4.5)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Schadevergoeding bij rechtmatige overheidsdaad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Normaal maatschappelijk risico overschreden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Recht op nadeelcompensatie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Dus: deel nadeel voor rekening burger (eigen risico)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Égalité des individus devant les charges publiques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Dus “referentiegroep” als toetssteen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705b"/>
                </a:solidFill>
                <a:latin typeface="Arial"/>
              </a:rPr>
              <a:t>Te behandelen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Opvallende jurisprudentie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Wet aanpassing bestuursprocesrecht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Geen tijd voor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Toepassingssituaties Wet Nadeelcompensatie en onrechtmatige besluiten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Inhoud regeling nadeelcompensatie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Titel 4.5 Nadeelcompensatie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Rechtmatige uitoefening van publiekrechtelijke bevoegdheid </a:t>
            </a:r>
            <a:r>
              <a:rPr b="0" lang="nl-NL" sz="2400" spc="-1" strike="noStrike" u="sng">
                <a:solidFill>
                  <a:srgbClr val="4c705b"/>
                </a:solidFill>
                <a:uFillTx/>
                <a:latin typeface="Arial"/>
              </a:rPr>
              <a:t>of</a:t>
            </a: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 taak door bestuursorgaan leidt tot schade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c705b"/>
                </a:solidFill>
                <a:latin typeface="Arial"/>
              </a:rPr>
              <a:t>Abnormale last</a:t>
            </a:r>
            <a:endParaRPr b="0" lang="en-US" sz="2000" spc="-1" strike="noStrike">
              <a:solidFill>
                <a:srgbClr val="4c705b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4c705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4c705b"/>
                </a:solidFill>
                <a:latin typeface="Arial"/>
              </a:rPr>
              <a:t>Buiten normaal maatschappelijk/bedrijfsrisico</a:t>
            </a:r>
            <a:endParaRPr b="0" lang="en-US" sz="1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c705b"/>
                </a:solidFill>
                <a:latin typeface="Arial"/>
              </a:rPr>
              <a:t>Speciale last</a:t>
            </a:r>
            <a:endParaRPr b="0" lang="en-US" sz="2000" spc="-1" strike="noStrike">
              <a:solidFill>
                <a:srgbClr val="4c705b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4c705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4c705b"/>
                </a:solidFill>
                <a:latin typeface="Arial"/>
              </a:rPr>
              <a:t>Drukt onevenredig zwaar op beperkte groep burgers of bedrijven</a:t>
            </a:r>
            <a:endParaRPr b="0" lang="en-US" sz="1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Toekenning schade (beschikking)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c705b"/>
                </a:solidFill>
                <a:latin typeface="Arial"/>
              </a:rPr>
              <a:t>Plus: redelijke kosten ter voorkoming/beperking </a:t>
            </a:r>
            <a:endParaRPr b="0" lang="en-US" sz="20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c705b"/>
                </a:solidFill>
                <a:latin typeface="Arial"/>
              </a:rPr>
              <a:t>Plus: redelijke kosten deskundige, leges, wettelijke rente</a:t>
            </a:r>
            <a:endParaRPr b="0" lang="en-US" sz="20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c705b"/>
                </a:solidFill>
                <a:latin typeface="Arial"/>
              </a:rPr>
              <a:t>Begrenzing 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Wat is: rechtmatig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Wat is: publiekrechtelijke bevoegdheid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Wat is: publiekrechtelijke taak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Indien ja: dan -&gt; bestuursrechter bevoegd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Indien nee: dan -&gt; bestuursrechter onbevoegd -&gt; HR Guldemond -&gt; gewone rechter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Schade voor rekening aanvrager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Risico-aanvaarding (actief of passief)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Geen redelijke maatregelen getroffen ter voorkoming of beperking schade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Vergoeding schade anderszins verzekerd (natura, andere regeling, verzekering)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Vangnet-/sluitstukregeling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c705b"/>
                </a:solidFill>
                <a:latin typeface="Arial"/>
              </a:rPr>
              <a:t>Verbetering ?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Positief: codificatie, duidelijkheid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Positief/negatief: “rechtmatige uitoefening publiekrechtelijke bevoegdheid of taak”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Zal een boel jurisprudentie opleveren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Toch onduidelijkheid “magische lijn”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Negatief: burger wordt gebonden aan vormvoorschriftelijke procedure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Negatief: competentieproblemen/magische lijn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c705b"/>
                </a:solidFill>
                <a:latin typeface="Arial"/>
              </a:rPr>
              <a:t>Onrechtmatige besluiten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Bereik: schadevergoeding die belanghebbende lijdt als gevolg van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Onrechtmatig besluit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Onrechtmatige handeling ter voorbereiding onrechtmatig besluit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Niet tijdig nemen van een besluit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Procedure: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Dagvaarding (civiele rechter)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Verzoekschrift (bestuursrechter)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c705b"/>
                </a:solidFill>
                <a:latin typeface="Arial"/>
              </a:rPr>
              <a:t>Bevoegde rechter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Bestuursrechter (bij uitzondering)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Bij uitsluiting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c705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c705b"/>
                </a:solidFill>
                <a:latin typeface="Arial"/>
              </a:rPr>
              <a:t>Wanneer Centrale Raad van Beroep of Belastingkamer Hoge Raad de bevoegde rechter zijn</a:t>
            </a:r>
            <a:endParaRPr b="0" lang="en-US" sz="20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Gevraagde vergoeding ten hoogste € 25.000,-- met inbegrip van de op dat moment verschenen rente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Gewone rechter (in hoofdzaak)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Wanneer Centrale Raad van Beroep of Belastingkamer Hoge Raad NIET de bevoegde rechter zijn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c705b"/>
                </a:solidFill>
                <a:latin typeface="Arial"/>
              </a:rPr>
              <a:t>Procedure verzoekschrift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Verzoekschriftprocedure 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Eerst bestuursorgaan  8 weken de tijd geven om tot vergoeding te besluiten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Zelfstandig of in het kader van (hoger) beroep tegen schadeveroorzakende besluit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Vormvoorschriften 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Aanduiding schadeoorzaak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Vermelding aard schade en (gespecificeerd) bedrag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Gronden van het verzoek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4c705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c705b"/>
                </a:solidFill>
                <a:latin typeface="Arial"/>
              </a:rPr>
              <a:t>(rol en betekenis artikel 4:5 lid 1 bij bestuursorgaan ?!)</a:t>
            </a:r>
            <a:endParaRPr b="0" lang="en-US" sz="20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Uitkomst: bij (gedeeltelijke) toewijzing, veroordeling tot schadevergoeding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4c705b"/>
                </a:solidFill>
                <a:latin typeface="Arial"/>
              </a:rPr>
              <a:t>RECHTMATIGE BESLUITEN</a:t>
            </a:r>
            <a:endParaRPr b="0" lang="en-US" sz="40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c705b"/>
                </a:solidFill>
                <a:latin typeface="Arial"/>
              </a:rPr>
              <a:t>Rechtsmachtverdeling bestuursrechter – civiele rechter vanaf 1 januari 2013 :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c705b"/>
                </a:solidFill>
                <a:latin typeface="Arial"/>
              </a:rPr>
              <a:t>Bevoegde rechter: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c705b"/>
                </a:solidFill>
                <a:latin typeface="Arial"/>
              </a:rPr>
              <a:t>Bestuursrechter 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1979640" y="476280"/>
            <a:ext cx="4824360" cy="10810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Schadeoorzaak appellabel b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611280" y="2133720"/>
            <a:ext cx="2089080" cy="10792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Centrale Raad van Bero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276720" y="2133720"/>
            <a:ext cx="2087280" cy="10792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Hoge Raad/ fisc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6012000" y="2133720"/>
            <a:ext cx="2089080" cy="10792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Over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979640" y="4005360"/>
            <a:ext cx="1800360" cy="25192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Bestuursrec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4788000" y="4005360"/>
            <a:ext cx="1800000" cy="25192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Gevraagd bedr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&gt;€25.00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gewone rec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020000" y="4005360"/>
            <a:ext cx="1944720" cy="25192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Gevraagd bedrag &lt;€25.00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Bestuursrechter of gewone rec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Straight Arrow Connector 10"/>
          <p:cNvCxnSpPr/>
          <p:nvPr/>
        </p:nvCxnSpPr>
        <p:spPr>
          <a:xfrm>
            <a:off x="2339640" y="1557000"/>
            <a:ext cx="1080" cy="577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8" name="Straight Arrow Connector 11"/>
          <p:cNvCxnSpPr/>
          <p:nvPr/>
        </p:nvCxnSpPr>
        <p:spPr>
          <a:xfrm>
            <a:off x="4284360" y="1557000"/>
            <a:ext cx="1080" cy="577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9" name="Straight Arrow Connector 12"/>
          <p:cNvCxnSpPr/>
          <p:nvPr/>
        </p:nvCxnSpPr>
        <p:spPr>
          <a:xfrm>
            <a:off x="6443280" y="1557000"/>
            <a:ext cx="1080" cy="577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40" name="Straight Arrow Connector 13"/>
          <p:cNvCxnSpPr/>
          <p:nvPr/>
        </p:nvCxnSpPr>
        <p:spPr>
          <a:xfrm>
            <a:off x="2339640" y="3212640"/>
            <a:ext cx="1080" cy="793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41" name="Straight Arrow Connector 15"/>
          <p:cNvCxnSpPr/>
          <p:nvPr/>
        </p:nvCxnSpPr>
        <p:spPr>
          <a:xfrm>
            <a:off x="3563640" y="3212640"/>
            <a:ext cx="1080" cy="793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42" name="Straight Arrow Connector 16"/>
          <p:cNvCxnSpPr/>
          <p:nvPr/>
        </p:nvCxnSpPr>
        <p:spPr>
          <a:xfrm>
            <a:off x="6372000" y="3212640"/>
            <a:ext cx="1080" cy="793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43" name="Straight Arrow Connector 17"/>
          <p:cNvCxnSpPr/>
          <p:nvPr/>
        </p:nvCxnSpPr>
        <p:spPr>
          <a:xfrm>
            <a:off x="7740360" y="3212640"/>
            <a:ext cx="1080" cy="793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705b"/>
                </a:solidFill>
                <a:latin typeface="Arial"/>
              </a:rPr>
              <a:t>Maar eerst…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..ik heb (al) een boek…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(geschreven)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c705b"/>
                </a:solidFill>
                <a:latin typeface="Arial"/>
              </a:rPr>
              <a:t>Welke regels passen we straks toe ?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Verplaatsen weekmarkt i.v.m. huldiging Epke, waardoor omzetschade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Wijzigen leerlingenvervoer, waardoor inhuren extra personeel bedrijf ouders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Vaststellen verordening “Centrum”, inhoudende verbod buiten winkel plaatsen van koopwaar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Vormfouten UOV, waardoor vernietiging omgevingsvergunning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boek.jpg"/>
          <p:cNvPicPr/>
          <p:nvPr/>
        </p:nvPicPr>
        <p:blipFill>
          <a:blip r:embed="rId1"/>
          <a:stretch/>
        </p:blipFill>
        <p:spPr>
          <a:xfrm>
            <a:off x="2771640" y="907920"/>
            <a:ext cx="3456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705b"/>
                </a:solidFill>
                <a:latin typeface="Arial"/>
              </a:rPr>
              <a:t>Vanaf 1 oktober verkrijgbaar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Jurisprudentie Awb, algemeen-juridische en omgevingsrechtelijke trends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ISBN 9789491073519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berghauserpont.nl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Vandaag: 1 boek te winnen door degene die juridische fout in power point als eerste ontdekt (“</a:t>
            </a:r>
            <a:r>
              <a:rPr b="1" lang="en-US" sz="3200" spc="-1" strike="noStrike">
                <a:solidFill>
                  <a:srgbClr val="4c705b"/>
                </a:solidFill>
                <a:latin typeface="Arial"/>
              </a:rPr>
              <a:t>VLODROP</a:t>
            </a: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”)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c705b"/>
                </a:solidFill>
                <a:latin typeface="Arial"/>
              </a:rPr>
              <a:t>In aantocht: Wab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Wet aanpassing bestuursprocesrecht, een greep voor de bestuurspraktijk: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Stroomlijning artt. 6:18/6:19 Awb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Verruiming toepassing artikel 6:22 Awb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Mogelijkheid antwoordkaart in bezwaar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Relativiteit (vanaf beroepsfase)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Incidenteel beroep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705b"/>
                </a:solidFill>
                <a:latin typeface="Arial"/>
              </a:rPr>
              <a:t>Grote Kamer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705b"/>
                </a:solidFill>
                <a:latin typeface="Arial"/>
              </a:rPr>
              <a:t>Judiciële lus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705b"/>
                </a:solidFill>
                <a:latin typeface="Arial"/>
              </a:rPr>
              <a:t>Aanwijzingen inhoud besluit na vernietiging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705b"/>
                </a:solidFill>
                <a:latin typeface="Arial"/>
              </a:rPr>
              <a:t>Jurisprudentie 1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Rb Almelo LJN BX8015: buitenwettelijke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klantvriendelijkheid afgestraft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Belanghebbende entiteiten: BX5229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(ond. ver.; effectieve bundeling belangen)</a:t>
            </a: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, BV6573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(vof, maatschap)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Belanghebbende aanvrager: BX6788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(bomen op zeer korte afstand)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Belanghebbende/afstand: (BX2556):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100 mtr – aard en omvang ruimt. ontw.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705b"/>
                </a:solidFill>
                <a:latin typeface="Arial"/>
              </a:rPr>
              <a:t>Jurisprudentie 2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Elektronisch best. verkeer: BX5972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(off. emailadres b.o. of van contactambtenaar), </a:t>
            </a: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BW9831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(nooit laten weten</a:t>
            </a: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), BV6514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(zienswijze langs niet-geopende weg)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Handhaving: BX7685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(beginselplicht invordering)</a:t>
            </a: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, BX2610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(constateringsrapport verbeurde dwangsom)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705b"/>
                </a:solidFill>
                <a:latin typeface="Arial"/>
              </a:rPr>
              <a:t>Jurisprudentie 3 - UOV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BX6014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(ambtshalve in afwijking van ontwerp besluiten)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BX6471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(nadere motivering na afloop zienswijzentermijn)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BX4690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(gebrekkige bezorging, Staatscourant, website)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BW3033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(afspraak en mondeling ingediende zienswijze)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10:07:12Z</dcterms:created>
  <dc:creator>Robert Schuwer</dc:creator>
  <dc:description/>
  <dc:language>en-US</dc:language>
  <cp:lastModifiedBy>Rob</cp:lastModifiedBy>
  <dcterms:modified xsi:type="dcterms:W3CDTF">2012-11-08T10:29:35Z</dcterms:modified>
  <cp:revision>55</cp:revision>
  <dc:subject/>
  <dc:title>Slide 1</dc:title>
</cp:coreProperties>
</file>