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6ECE-0A10-473E-9388-034C91C1F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C0A-4B7D-44F8-80A7-465C02E751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86F-E33F-4A31-91A5-DE7E67F13D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186-11CE-4318-9B95-3DDEC25758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21E-C0BE-4AD5-B091-7197B1B9B8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D68-94E3-4E54-B6F5-3D5EDA955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7734-E21F-43F8-B92A-5BFF860A1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49E-23A6-4B36-974F-A32936F019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C9A0-3E33-4E12-AD30-FB99D7ACE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CD7-6A09-4B91-933E-96000C6C6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C71C-7234-43AA-9CF9-58D1A5DF0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D32F-E5DA-4D7C-A0FD-4CE43DE9E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991-FC23-4902-A972-DCED783BF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3EFD-A317-49D5-BAA3-88DF00F8B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A82-FFA6-4267-9D5C-44DF0EFCC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663-A6D4-442D-978D-F6D2DDF5C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9EE-8B78-4C89-9D96-A5FE5DB1F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1DD1-0A11-4D4C-97BF-F5C7D8A455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F7D-AAA0-4DA7-9097-83C643B513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29F-559A-4D08-B0A1-3BCFAB36D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5CF-7DC2-434E-90D8-2AF48D87B2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D50-18E3-49B0-91CE-D0507568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DC9-9EB2-43B0-B44B-723F38A1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659-35B5-48D1-88C1-611C8FC0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F25-1610-41BF-836F-871151D7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F07-BD0E-4E72-BA63-AE5BD87B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E5F-6D7A-49B8-99E8-16BA75E6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5DE-A1ED-4B62-A5E2-6509ECE8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C00-FB88-4754-B4BF-EECC02F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87F-25E0-4FD1-B872-33AD1EE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96A-A600-4E45-B56B-F9BBA54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C86-35FF-42FA-96AC-2E9DA843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C62-A2D0-47DE-B937-C6A831D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564-88A6-4F42-89A3-24D124BEA0F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889308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mplementatie Wet nadeelscompensatie en schadevergoeding bij onrechtmatige besluiten (Wns)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 de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emeente Oldebro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ventarisatie bestaande proces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1) Inventarisatie bestaande processen afhandeling verschillende verzoeken 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oces-vraag aan verantwoordelijke medewe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2 bijeenkomsten in mei j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met verantwoordelijke medewerkers en vervolgens met direct betrokkenen op de vakafdel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erantwoordelijk medewerker op cur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ventarisatie toekomstige proces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2) Inventarisatie toekomstige processen afhandeling verschillende verzoeken 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an taak Financiën naar taak Juridische z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Rol Achmea in nieuwe werkpro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Bijstellen werkverdeling actiepuntenlij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3) Vergelijking  aansprakelijkheidspolis met Wns en vervolgens overleg met Achm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esentatie Achmea in 2012 + tijdschrift artik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Eind mei/ begin j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oornemen conceptbrief met medewerker afdeling financiën, daarna met afdelingshoofd financië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Calibri"/>
              </a:rPr>
              <a:t>Brief aan hoofd juridische zaken Achm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elscompens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iet verzekerd op basis van polisvoorwaarde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De verzekering dekt niet aansprakelijkheid voor schade die voortvloeit uit, berust op of verband houdt met een rechtmatig handelen door verzekerde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ansprakelijkheids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oorfas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Schadevraag: overleg tussen gemeente en verzekera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In antwoord op verzoekschrift bij rech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Achmea voert verweer namens en in samenspraak met gemeente Oldebro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echt nadeelcompensatieverzo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4) Maken raadsstukken voor invoering van een recht voor aanvraag nadeel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Mei &amp; j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luiden uit het 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sprek met burgemeester en daarna wethou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echt nadeelcompensatieverzo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 wettelijk voorschrift een recht van maxima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00,- heffen voor in behandeling nemen aanvraa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Welk bedrag: € 100 t/m € 5000,-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aarboven € 300,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Ideëen wethou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former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interne betrokken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5) Overleg met medewerkers over alle mogelijke gevolgen Wns inzake wettelijke route, werkprocessen, te heffen recht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Bijeenkomst eind juni/ begin juli met Wns verantwoordelijken en daarna direct betrokke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olgende stap: informeren MT &amp; schrijven bijbehorende MT memo… wanne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ing u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schrijving coordinator afhandeling schadeclai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schrijving extern adviseur nadeel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ke aanvragen nadeelscompensatie worden voorgelegd aan extern advise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Vrage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troduc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r. Eileen Jonker-Hof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ridisch medewerker kwaliteitszorg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iner, o.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ridische kwaliteitszorg, regelgevingstechniek, klachtrecht, mandaat, W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.r.jonker@outlook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dankt voor de aandach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© E.R. Jonker-Hofm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n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ersonen, bedrijven en instellingen ondervinden op een bepaald moment nadeel van een gemeente die zijn werk uitvo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Okt. 2012: Cursus binnen de reg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Project Oldebroek i.s.m. Olaf Schu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Voortrekkersrol in Nede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vatting W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punten implementatie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ige stand van zaken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haal nadeel bij de gemee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ngs welke weg kan nadeel bij gemeente verhaald worde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Omzetschade wegens reconstrueren van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een doorgaande we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Oldebroek: struikelen over iets uitstekende stoepteg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Calibri"/>
              </a:rPr>
              <a:t>(in bepaalde gevallen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adeelcompensati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: met name o.g.v. 6:162 B.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Calibri"/>
              </a:rPr>
              <a:t>Straks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: aanvraag schadevergoeding Titel 4.5. Awb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Restcategorie: 6:162 B.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haal nadeel bij de gemeen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Calibri"/>
              </a:rPr>
              <a:t>Oldebroek: per ongeluk bomen kappen van Rijkswaterstaat, mentale schade ambtenaar wegens incident Social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Tot 01-07-2013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: met name o.g.v. jurispruden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: Verzoekschriftprocedure Titel 8.4 Awb / 6:162 B.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stcategorie: 6:162 B.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lke rechter is bevoeg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Gemeente wil niet tot vergoeding nadeel ove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deelcompensa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 (handeling gemeente appellabel) of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Strak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stcategorie: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lke rechter is bevoeg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adeverg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Tot 01-07-2013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keuze bestuursrechter of burgerlijke rechter (handeling gemeente appellabel), anders burgerlijke rech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estuursrechter of gewone rechter (handeling gemeente appellabel/ hoogte clai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stcategorie: burgerlijke rechter (6:1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achtspunten- en actielijst voor implementatie Wns door gemeente Oldebr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April &amp; mei: adviesgesprekken met Olaf Schu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Reactie &amp; mails gemeenten in de reg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9:39:00Z</dcterms:created>
  <dc:creator>Windows-gebruiker</dc:creator>
  <dc:description/>
  <dc:language>en-US</dc:language>
  <cp:lastModifiedBy>Rob</cp:lastModifiedBy>
  <dcterms:modified xsi:type="dcterms:W3CDTF">2013-11-12T09:37:24Z</dcterms:modified>
  <cp:revision>18</cp:revision>
  <dc:subject/>
  <dc:title>Dia 1</dc:title>
</cp:coreProperties>
</file>