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4D5C-4E4F-4530-9157-7E0201F011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50DA-4334-4277-A0C0-5F4155AC8C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E1E9-FA30-41B9-85CE-ABEBF41048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F53-61C9-4684-8D7F-82C58D16F7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04DB-9AE1-4EF7-83B4-054B9DDD4F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3F3-AFD3-4EE1-8089-9BE7E576B6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3707-503B-489F-BCBA-641481C0A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9A4A-2009-478E-8C3D-8BDA443736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F6C9-2B64-4AD9-9F39-D048518DE8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856A-31AA-4374-B63A-DBB15F895D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61AA-A3C3-426D-9F00-C2B279EF44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D175-332E-4945-8893-2D3BCEFFFA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93EC-2036-4450-BF99-D172B250E8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37D0-00FA-4830-9DFE-00305A9D4D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5B31-01C0-4E3B-8720-D905AE7844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70ED-A060-4D37-9AAF-2A64D1897F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3F47-5AE5-4DD2-BD13-72E6B4653D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50D2-D5CF-4CDC-8968-1E235438ED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D7F-1DFE-47B2-953C-905F43C042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A83D-A7C3-4C3A-A566-7A4A39A427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52F0-8BD4-406F-8DF6-197349056D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015-9276-4BDB-BB74-C384E3B8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52E-70A5-45D2-AC34-4CB16ECA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755-2421-4325-BD91-EC4C5D5D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EAB-80B4-4B45-9602-322D5367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6DF-E85F-4257-9DA1-B2EE89A6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53B-ED0F-4786-9C12-DAF5ACDE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FBE-ED2B-43DB-9680-5D18E417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0B0-5D2A-4552-A1EE-8DC70745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874-A8E5-41CD-8759-4E86037F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85D-58BB-41E5-9E81-D18898BD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6E5-1D68-46E6-866B-D7288B36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BE9-99BC-4B09-8605-EAC8F500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1A35-BD0F-439E-9F5E-E0ECCAAC7E8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268280"/>
            <a:ext cx="889308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mplementatie Wet nadeelscompensatie en schadevergoeding bij onrechtmatige besluiten (Wns)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 de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gemeente Oldebro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ventarisatie bestaande proces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1) Inventarisatie bestaande processen afhandeling verschillende verzoeken 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Proces-vraag aan verantwoordelijke medewe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2 bijeenkomsten in mei j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met verantwoordelijke medewerkers en vervolgens met direct betrokkenen op de vakafdel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Verantwoordelijk medewerker op cur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ventarisatie toekomstige proces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2) Inventarisatie toekomstige processen afhandeling verschillende verzoeken 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Van taak Financiën naar taak Juridische z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Rol Achmea in nieuwe werkpro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Bijstellen werkverdeling actiepuntenlij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ansprakelijkheids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3) Vergelijking  aansprakelijkheidspolis met Wns en vervolgens overleg met Achm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Presentatie Achmea in 2012 + tijdschrift artik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Eind mei/ begin ju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oornemen conceptbrief met medewerker afdeling financiën, daarna met afdelingshoofd financië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ansprakelijkheids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Calibri"/>
              </a:rPr>
              <a:t>Brief aan hoofd juridische zaken Achm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deelscompensa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iet verzekerd op basis van polisvoorwaarde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De verzekering dekt niet aansprakelijkheid voor schade die voortvloeit uit, berust op of verband houdt met een rechtmatig handelen door verzekerde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ansprakelijkheids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Voorfas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Schadevraag: overleg tussen gemeente en verzekera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In antwoord op verzoekschrift bij rech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Achmea voert verweer namens en in samenspraak met gemeente Oldebro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echt nadeelcompensatieverzo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4) Maken raadsstukken voor invoering van een recht voor aanvraag nadeel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Mei &amp; ju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Geluiden uit het 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Gesprek met burgemeester en daarna wethou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echt nadeelcompensatieverzo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wettelijk voorschrift een recht van maxima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00,- heffen voor in behandeling nemen aanvraa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Welk bedrag: € 100 t/m € 5000,-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aarboven € 300,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Ideëen wethou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former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interne betrokken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5) Overleg met medewerkers over alle mogelijke gevolgen Wns inzake wettelijke route, werkprocessen, te heffen recht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Bijeenkomst eind juni/ begin juli met Wns verantwoordelijken en daarna direct betrokke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Volgende stap: informeren MT &amp; schrijven bijbehorende MT memo… wanne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ming up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schrijving coordinator afhandeling schadeclai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schrijving extern adviseur nadeel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ke aanvragen nadeelscompensatie worden voorgelegd aan extern advise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Vrage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troduc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r. Eileen Jonker-Hof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ridisch medewerker kwaliteitszorg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iner, o.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ridische kwaliteitszorg, regelgevingstechniek, klachtrecht, mandaat, W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.r.jonker@outlook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dankt voor de aandach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© E.R. Jonker-Hofm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n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ersonen, bedrijven en instellingen ondervinden op een bepaald moment nadeel van een gemeente die zijn werk uitvo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Okt. 2012: Cursus binnen de reg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Project Oldebroek i.s.m. Olaf Schu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Voortrekkersrol in Nede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menvatting W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punten implementatie Oldebr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ige stand van zaken Oldebr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haal nadeel bij de gemeen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ngs welke weg kan nadeel bij gemeente verhaald worde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Calibri"/>
              </a:rPr>
              <a:t>Omzetschade wegens reconstrueren van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Calibri"/>
              </a:rPr>
              <a:t>een doorgaande we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Calibri"/>
              </a:rPr>
              <a:t>Oldebroek: struikelen over iets uitstekende stoepteg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Calibri"/>
              </a:rPr>
              <a:t>(in bepaalde gevallen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adeelcompensati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: met name o.g.v. 6:162 B.W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Calibri"/>
              </a:rPr>
              <a:t>Straks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: aanvraag schadevergoeding Titel 4.5. Awb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Restcategorie: 6:162 B.W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haal nadeel bij de gemeen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Calibri"/>
              </a:rPr>
              <a:t>Oldebroek: per ongeluk bomen kappen van Rijkswaterstaat, mentale schade ambtenaar wegens incident Social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Tot 01-07-2013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: met name o.g.v. jurispruden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: Verzoekschriftprocedure Titel 8.4 Awb / 6:162 B.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stcategorie: 6:162 B.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lke rechter is bevoeg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Gemeente wil niet tot vergoeding nadeel ove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deelcompensa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bestuursrechter (handeling gemeente appellabel) of burgerlijke rechter (6:1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trak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Bestuursrech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stcategorie: burgerlijke rechter (6:1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lke rechter is bevoeg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Tot 01-07-2013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keuze bestuursrechter of burgerlijke rechter (handeling gemeente appellabel), anders burgerlijke rech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bestuursrechter of gewone rechter (handeling gemeente appellabel/ hoogte clai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stcategorie: burgerlijke rechter (6:1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appen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achtspunten- en actielijst voor implementatie Wns door gemeente Oldebr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April &amp; mei: adviesgesprekken met Olaf Schu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Reactie &amp; mails gemeenten in de reg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9:39:00Z</dcterms:created>
  <dc:creator>Windows-gebruiker</dc:creator>
  <dc:description/>
  <dc:language>en-US</dc:language>
  <cp:lastModifiedBy>Rob</cp:lastModifiedBy>
  <dcterms:modified xsi:type="dcterms:W3CDTF">2013-11-12T09:37:24Z</dcterms:modified>
  <cp:revision>18</cp:revision>
  <dc:subject/>
  <dc:title>Dia 1</dc:title>
</cp:coreProperties>
</file>